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4.wmf" ContentType="image/x-wmf"/>
  <Override PartName="/ppt/media/image1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2BF-19D8-46B7-AF29-BB6D1D7F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0FE-82E5-426A-8B66-0AB12CBB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DE056-C26D-4141-A74B-45BF211E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3A1CD-BA18-4BD6-A419-E18664DE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B14F53-E72E-4A46-ABF4-BCEA4F0E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346F5-8AF6-4555-986B-5F9DD72F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9870F-6127-4159-AD99-26C20182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468F1-C885-4B79-B1CF-CBA45960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14852-99D7-43D1-97F4-9533C88D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163413-325F-46AC-B15E-1B8CDBF2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840CCF-5A68-4BE4-A8A0-0C04DE56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B5B3B7-68CA-4FEC-84F8-478720ED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B81-E53A-4BFA-88EA-57E2509E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13C3A-6AA7-4991-BBC2-CCB2A910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F2360-C32F-4AD0-9182-FDAA0367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95F69-862F-4D8D-93A6-8F701EB1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2BE655-DFAE-462F-A9FC-846B4472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BFEA2A-9873-4382-B365-CCDA7D81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C2206-5BC0-4866-B574-31442803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547538-D97E-44E0-BA63-18CDD228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3FA306-5BEF-4860-A521-5F5E2916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B6F81-D2E4-4E54-81D5-AD285FF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297A8-C765-40E9-B5D3-02A65F34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69E-9C68-4AFA-828E-0A1E1AD1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406A4-3F89-4EFB-AB45-52437B85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B0E86-B099-40E9-BB17-BCC02A60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3CE32-EA33-44F7-AAC1-40E2649D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C10D4-EEB5-46DB-94AD-9E089445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1BF1-58D9-44A1-ACBE-008D6A5D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AA5E3-6485-4A0E-A95B-FBE89DFA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1654C-B3C3-410C-A37C-EEB55C47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FB8C1-AB79-45E5-B73F-A078ADF0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22DA8-3956-490C-870D-B10E355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359E6-3C3A-4321-A293-7427A61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87AC-D9DC-408B-8DA2-4F9252CD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34B51-FB3C-4F82-9243-A1319DB1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E3BB6-FDEF-42C7-8D81-1FC8551E1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78CE7-B593-4A5E-8E09-1CB06894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B07F6-7A8B-40C3-BFF9-9071FF1D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C09FE-9F8E-4F25-862F-6317589E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F31EC5-3C71-4C18-A7BB-D7DBC658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2F3EC-45DD-46A7-A421-5E1A701B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426AF-69ED-487E-A9D1-0C20EFC6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5FEFF-763C-47C7-96C8-20E54FB0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82E8E8-53C8-4073-A164-542918EE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C5EA-4EDD-45D2-9472-BA8A1234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4F2D2-4295-40E6-9ACC-ADF22341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22F771-F041-48B2-ABCA-3D26B370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083A2-C7E5-4197-AD7D-6AAE1951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ACFC3-EF01-4892-A569-2594C32A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16A74-BE9C-4858-9D3F-22F738EA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8233-E64E-4D32-8F05-3C174B7A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13D7-B8C7-4D7F-8C3B-61D1AEDA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2825-91C6-4534-BE7E-6A53E6A4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D806-E36B-47B4-A9EB-60C8619C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A862-055C-4185-AB0C-6876AC8C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E6B-B185-4592-AF3B-5032A216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4FDF-223F-4A59-A320-35FAD8F8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EF00-DCEE-406E-B451-F25E216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F042-E4D1-40B3-B07D-8AD80167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1A54-113D-4CE3-95DA-197F8B38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1E54-4F8D-44C1-A857-E74C1B50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890D-CD3A-443B-A844-DA4AC044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01F1F-17B7-4312-B018-7B7DC1E6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9A9C-3757-43C2-81D4-8459AD19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846C-B7D1-4AF6-8F8D-B52B3B0C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5150-EE0B-49E3-B305-3141D13D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0CC-DDC7-4030-9DE1-0F48A665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D058-55E0-474B-B26B-F741B71F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E62C7-C6FF-4EAD-A883-74B060A8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A20E-52EE-422C-9C97-1456E8EA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0177-4528-4465-87C1-A8BFA71C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DD0B8-7104-4495-B340-7F17C7A5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DF24B-6A61-4907-9C4A-BD0ECA7A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7CF8-EFEF-4FB9-875E-C955B7C6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A5448-5983-4972-9B64-7C60C20A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0A63-4F6C-44E1-A803-3BD7980A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BAE3-7A88-4501-8EA5-F3163DCE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FB0-E9E7-49BB-8584-D513DBF3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5B55-A390-4EBD-AEC1-19A1D501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8057-7725-4DE8-B6FA-03082244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C7584-7A47-4E7A-8A87-846E2D08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4B37-DF22-4749-9FD7-B314CA78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3ABDC-747D-42BA-A026-1F6248D1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F0D9C-C254-4599-87C2-FE9E943C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B304-A6A5-4774-A1EC-1800370A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BFBF3-0130-466D-A703-AD65EBAA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DD04F-5911-4E53-BC7B-3E33B1FC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F7965-83EC-4B76-A5FF-93EDF540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D98-7DBE-4081-9EB8-6526E553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1E234-C86F-4D25-8827-FD06E2AA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AED1-5FD8-477F-A990-A50A927F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628EA-EDFB-47C6-BAAE-322646A6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83253-F160-43F7-BD74-30386705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2EED-7260-4651-A806-FE0A5F4C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5DE0E-6B4F-4DB4-BB76-45B63911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8B4E6-282E-4785-B7AB-51F4FA33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C312B-205D-441F-9D24-5A931156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9DFED-006F-4ECA-A593-4FA0778A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50699-5A39-46C8-A281-63F17E72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462-8E73-4C51-8EA8-B96F573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77A6A-7B4B-474A-B464-D5834C46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9F6EB-8C60-49AE-943D-D23AABE9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B7F4D-684E-497D-8B33-0BE83ECD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72B94-8F96-4BA4-8586-DD72716D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F76AA-F0C1-4779-BFC2-EA9CA9CB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AE84E-8513-4275-9CBB-DC49A107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DBF44-6FC6-4238-8C00-002BC68E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552FD-C8C4-42AD-830E-B78AFD22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FAF1A-FD22-490A-962C-FAE079CA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596E5-CE7A-4A94-9E59-EC5A431B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315-F7A8-4024-9A54-3A4A36C0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8DEA0-056D-4D58-B351-5EB13AE8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F5235-0760-4AB0-BB8F-9C4513DD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13401-D6A4-4100-A0C9-FB7CA0A9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C02E2-112E-4A62-BA52-2593EC0C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AAE98-6095-4899-BB4D-CE3FC011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221E-B2E4-4861-A1FF-9DE26715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7CA70-EC40-4923-AB60-EF088DBA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D2F07-458B-440A-BDAC-AC595215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3ADB4-B198-4AC0-BEC1-0E17C4EC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D28C5-8971-4071-B012-64856ED7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1E0-9A43-493D-876D-158264D2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3093-ADDF-412F-919C-A8B16D05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5931C-F6E9-4A28-9CFE-4EBAC186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4B2D8-A253-4165-9CC4-A9132B02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E9B7B-38AF-4B2D-9D53-3BF74C1C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9340B-78E3-42F1-BF55-17887BD0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2CFF7-9344-4EB5-BF00-E7FA0C9E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D5EA7-1A18-4299-9492-3B7E7C89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540A5-7FFA-4C5F-974D-2D35823C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11EE0-397E-4E71-9BDF-91E7FB16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C7EF8-268C-4699-8D1F-91204311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543-5A49-45F3-BF46-5F3B6F9A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639A9-DD9F-45AA-8D74-2F6C6509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3D93D-9F15-4EDB-88C4-4EBD3087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CAA2E-87FA-4C3E-973C-6066ED2E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4FA74-E73F-41D2-8AB5-82A2A0CB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DC9F1-8889-4029-81F3-14BCC522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BCAA1-280B-49E6-8186-934BE76B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4A2CD-845F-46F1-ABD9-C8D5F7DC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9C36D-A254-46A0-920C-2AB1CCB4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EC5A7-21DB-4F9C-854D-A52D9A73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D1EA1-6C66-45CD-954C-41695036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FDDF-C616-4FDA-98B0-1C9A1127C3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A788-5FD6-4985-BA5A-9F9473D458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4A25-BC9E-40B2-8528-1C0F24EB46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6D18-D1F0-4928-AE29-F116159A54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67E3-5A4C-4D29-85DC-3C427680D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63BC-DDBF-4071-A652-8AC5E99D1E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726A-4ADD-4DE9-B806-14F317561C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D0C6-6043-4438-9AC5-88613C8B6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3938-AB88-43F7-8452-BA9E1D083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9012-71D0-4EEF-9A23-7C601487DD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327D-4A86-4C4E-B963-1CD65D53B51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1284-7711-47EA-9CAE-72DE4D1E7F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143000" y="4571640"/>
            <a:ext cx="685800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ESA 5 MAP USER’S GROU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PRING 200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380520" y="2743200"/>
            <a:ext cx="845820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Century Gothic"/>
              </a:rPr>
              <a:t>Unlocking Reports </a:t>
            </a:r>
            <a:br>
              <a:rPr sz="3600"/>
            </a:br>
            <a:r>
              <a:rPr b="0" lang="en-US" sz="2800" spc="-1" strike="noStrike">
                <a:solidFill>
                  <a:srgbClr val="d16349"/>
                </a:solidFill>
                <a:latin typeface="Century Gothic"/>
              </a:rPr>
              <a:t>to</a:t>
            </a: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d16349"/>
                </a:solidFill>
                <a:latin typeface="Century Gothic"/>
              </a:rPr>
              <a:t>Reach Your Goals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3" descr="NWEA (color) web.gif"/>
          <p:cNvPicPr/>
          <p:nvPr/>
        </p:nvPicPr>
        <p:blipFill>
          <a:blip r:embed="rId1"/>
          <a:stretch/>
        </p:blipFill>
        <p:spPr>
          <a:xfrm>
            <a:off x="3041640" y="395280"/>
            <a:ext cx="3086280" cy="1609560"/>
          </a:xfrm>
          <a:prstGeom prst="rect">
            <a:avLst/>
          </a:prstGeom>
          <a:ln w="0">
            <a:noFill/>
          </a:ln>
        </p:spPr>
      </p:pic>
      <p:sp>
        <p:nvSpPr>
          <p:cNvPr id="609" name="TextBox 4"/>
          <p:cNvSpPr/>
          <p:nvPr/>
        </p:nvSpPr>
        <p:spPr>
          <a:xfrm>
            <a:off x="2711160" y="556272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Janet Whee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Partner Relations Representativ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eate focus-target an area of ne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0" name="Picture 2" descr="C:\Documents and Settings\andrew.bean\Desktop\slides\ir-1.jpg"/>
          <p:cNvPicPr/>
          <p:nvPr/>
        </p:nvPicPr>
        <p:blipFill>
          <a:blip r:embed="rId1"/>
          <a:stretch/>
        </p:blipFill>
        <p:spPr>
          <a:xfrm>
            <a:off x="1235160" y="1636560"/>
            <a:ext cx="665316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171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2" name="Picture 4" descr=""/>
          <p:cNvPicPr/>
          <p:nvPr/>
        </p:nvPicPr>
        <p:blipFill>
          <a:blip r:embed="rId1"/>
          <a:stretch/>
        </p:blipFill>
        <p:spPr>
          <a:xfrm>
            <a:off x="650880" y="1628640"/>
            <a:ext cx="781524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ncorporate Strategi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4560" y="2285640"/>
            <a:ext cx="8504280" cy="24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et the needs of all studen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pitalize on the knowledge and experience of  your colleagu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ork as a te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5" name="Picture 6" descr="C:\Documents and Settings\janet.wheeler\Local Settings\Temporary Internet Files\Content.IE5\K7V2TS8C\MCj02304000000[1].wmf"/>
          <p:cNvPicPr/>
          <p:nvPr/>
        </p:nvPicPr>
        <p:blipFill>
          <a:blip r:embed="rId1"/>
          <a:stretch/>
        </p:blipFill>
        <p:spPr>
          <a:xfrm>
            <a:off x="3809880" y="3352680"/>
            <a:ext cx="14940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147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ly what you know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1"/>
          <a:stretch/>
        </p:blipFill>
        <p:spPr>
          <a:xfrm>
            <a:off x="187200" y="1614600"/>
            <a:ext cx="8763120" cy="4938480"/>
          </a:xfrm>
          <a:prstGeom prst="rect">
            <a:avLst/>
          </a:prstGeom>
          <a:ln w="0">
            <a:noFill/>
          </a:ln>
        </p:spPr>
      </p:pic>
      <p:cxnSp>
        <p:nvCxnSpPr>
          <p:cNvPr id="658" name="Straight Arrow Connector 6"/>
          <p:cNvCxnSpPr/>
          <p:nvPr/>
        </p:nvCxnSpPr>
        <p:spPr>
          <a:xfrm>
            <a:off x="2590560" y="2849040"/>
            <a:ext cx="533880" cy="2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59" name="Straight Arrow Connector 7"/>
          <p:cNvCxnSpPr/>
          <p:nvPr/>
        </p:nvCxnSpPr>
        <p:spPr>
          <a:xfrm>
            <a:off x="2568600" y="310212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660" name="Straight Arrow Connector 8"/>
          <p:cNvCxnSpPr/>
          <p:nvPr/>
        </p:nvCxnSpPr>
        <p:spPr>
          <a:xfrm>
            <a:off x="2514600" y="4114800"/>
            <a:ext cx="534240" cy="21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sp>
        <p:nvSpPr>
          <p:cNvPr id="661" name="Oval 9"/>
          <p:cNvSpPr/>
          <p:nvPr/>
        </p:nvSpPr>
        <p:spPr>
          <a:xfrm>
            <a:off x="3276720" y="2209680"/>
            <a:ext cx="2590560" cy="53352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Study</a:t>
            </a:r>
            <a:r>
              <a:rPr b="0" lang="en-US" sz="3300" spc="-1" strike="noStrike">
                <a:solidFill>
                  <a:srgbClr val="88a1ad"/>
                </a:solidFill>
                <a:latin typeface="Georgia"/>
              </a:rPr>
              <a:t> – Assess Your Progr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560" y="1828800"/>
            <a:ext cx="8504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we have a shared visi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has using data provided opportunities for sharing with my colleague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 I see evidence of student growth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we created a cycle of continuous improvement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Act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-Begin somewhere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04560" y="1904760"/>
            <a:ext cx="850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Use the data to chang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focus (targeted areas of concern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iculu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structional strategies (flexible grouping, differentiated instruction, etc.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 with my colleagues-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uccessful strategi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sources and materia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lanning Tim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ersistence . . . not perfec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67" name="Content Placeholder 3" descr=""/>
          <p:cNvPicPr/>
          <p:nvPr/>
        </p:nvPicPr>
        <p:blipFill>
          <a:blip r:embed="rId1"/>
          <a:stretch/>
        </p:blipFill>
        <p:spPr>
          <a:xfrm>
            <a:off x="298440" y="1663560"/>
            <a:ext cx="851688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isdo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01320" y="1526760"/>
            <a:ext cx="850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egin challenging your own assumptions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Your assumptions are your windows on the world.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crub them off every once in awhile, or the light won’t come in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lan Alda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0" name="Picture 4" descr="image027.jpg"/>
          <p:cNvPicPr/>
          <p:nvPr/>
        </p:nvPicPr>
        <p:blipFill>
          <a:blip r:embed="rId1"/>
          <a:srcRect l="0" t="12000" r="13434" b="0"/>
          <a:stretch/>
        </p:blipFill>
        <p:spPr>
          <a:xfrm>
            <a:off x="3122640" y="1697040"/>
            <a:ext cx="2886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o forth . . . . . . have fun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2" name="Why buy expensive toys.wmv" descr=""/>
          <p:cNvPicPr/>
          <p:nvPr/>
        </p:nvPicPr>
        <p:blipFill>
          <a:blip r:embed="rId1"/>
          <a:stretch/>
        </p:blipFill>
        <p:spPr>
          <a:xfrm>
            <a:off x="2678040" y="225756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73" name="TextBox 3"/>
          <p:cNvSpPr/>
          <p:nvPr/>
        </p:nvSpPr>
        <p:spPr>
          <a:xfrm>
            <a:off x="563400" y="5546880"/>
            <a:ext cx="807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HANK YOU for all you do for kids!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80480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" dur="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sessment should make a differe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grpSp>
        <p:nvGrpSpPr>
          <p:cNvPr id="611" name="Flowchart: Extract 3"/>
          <p:cNvGrpSpPr/>
          <p:nvPr/>
        </p:nvGrpSpPr>
        <p:grpSpPr>
          <a:xfrm>
            <a:off x="2182680" y="1444680"/>
            <a:ext cx="4767480" cy="4809960"/>
            <a:chOff x="2182680" y="1444680"/>
            <a:chExt cx="4767480" cy="4809960"/>
          </a:xfrm>
        </p:grpSpPr>
        <p:pic>
          <p:nvPicPr>
            <p:cNvPr id="612" name="Flowchart: Extract 3" descr=""/>
            <p:cNvPicPr/>
            <p:nvPr/>
          </p:nvPicPr>
          <p:blipFill>
            <a:blip r:embed="rId1"/>
            <a:stretch/>
          </p:blipFill>
          <p:spPr>
            <a:xfrm>
              <a:off x="2182680" y="1444680"/>
              <a:ext cx="4767480" cy="48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3452760" y="3848040"/>
              <a:ext cx="2225880" cy="22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14" name="TextBox 17"/>
          <p:cNvSpPr/>
          <p:nvPr/>
        </p:nvSpPr>
        <p:spPr>
          <a:xfrm>
            <a:off x="3968640" y="2530440"/>
            <a:ext cx="11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State Te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TextBox 18"/>
          <p:cNvSpPr/>
          <p:nvPr/>
        </p:nvSpPr>
        <p:spPr>
          <a:xfrm>
            <a:off x="5411160" y="55054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NWEA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19"/>
          <p:cNvSpPr/>
          <p:nvPr/>
        </p:nvSpPr>
        <p:spPr>
          <a:xfrm>
            <a:off x="2713320" y="533412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sroom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ssessment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7" name="Picture 11" descr="C:\Documents and Settings\janet.wheeler\Local Settings\Temporary Internet Files\Content.IE5\DW0RP42Z\MPj04265620000[1].jpg"/>
          <p:cNvPicPr/>
          <p:nvPr/>
        </p:nvPicPr>
        <p:blipFill>
          <a:blip r:embed="rId2"/>
          <a:stretch/>
        </p:blipFill>
        <p:spPr>
          <a:xfrm>
            <a:off x="3730680" y="3352680"/>
            <a:ext cx="1676520" cy="1828800"/>
          </a:xfrm>
          <a:prstGeom prst="rect">
            <a:avLst/>
          </a:prstGeom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 have MAP data . . . now wha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2718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ow do you create a shared visio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4560" y="1599840"/>
            <a:ext cx="8504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tools for improving instruction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aying the found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signing your approac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ng a culture of continuous impr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Diagram 3" descr=""/>
          <p:cNvPicPr/>
          <p:nvPr/>
        </p:nvPicPr>
        <p:blipFill>
          <a:blip r:embed="rId1"/>
          <a:stretch/>
        </p:blipFill>
        <p:spPr>
          <a:xfrm>
            <a:off x="2610000" y="3419640"/>
            <a:ext cx="4028760" cy="3193920"/>
          </a:xfrm>
          <a:prstGeom prst="rect">
            <a:avLst/>
          </a:prstGeom>
          <a:ln w="0">
            <a:noFill/>
          </a:ln>
        </p:spPr>
      </p:pic>
      <p:cxnSp>
        <p:nvCxnSpPr>
          <p:cNvPr id="623" name="Straight Arrow Connector 5"/>
          <p:cNvCxnSpPr/>
          <p:nvPr/>
        </p:nvCxnSpPr>
        <p:spPr>
          <a:xfrm flipH="1">
            <a:off x="4605120" y="4267080"/>
            <a:ext cx="2160" cy="1526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4" name="Straight Arrow Connector 8"/>
          <p:cNvCxnSpPr/>
          <p:nvPr/>
        </p:nvCxnSpPr>
        <p:spPr>
          <a:xfrm>
            <a:off x="3885840" y="5017680"/>
            <a:ext cx="1524600" cy="2520"/>
          </a:xfrm>
          <a:prstGeom prst="straightConnector1">
            <a:avLst/>
          </a:prstGeom>
          <a:ln w="28440">
            <a:solidFill>
              <a:srgbClr val="ffe947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5" name="Curved Connector 11"/>
          <p:cNvCxnSpPr/>
          <p:nvPr/>
        </p:nvCxnSpPr>
        <p:spPr>
          <a:xfrm flipV="1">
            <a:off x="4648320" y="3885480"/>
            <a:ext cx="1296000" cy="76284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6" name="TextBox 12"/>
          <p:cNvSpPr/>
          <p:nvPr/>
        </p:nvSpPr>
        <p:spPr>
          <a:xfrm>
            <a:off x="5946120" y="3708360"/>
            <a:ext cx="170172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Reflective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627" name="Curved Connector 15"/>
          <p:cNvCxnSpPr/>
          <p:nvPr/>
        </p:nvCxnSpPr>
        <p:spPr>
          <a:xfrm flipV="1" rot="10800000">
            <a:off x="3276000" y="5105160"/>
            <a:ext cx="91512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28440">
            <a:solidFill>
              <a:srgbClr val="ffe947"/>
            </a:solidFill>
            <a:miter/>
            <a:tailEnd len="med" type="arrow" w="med"/>
          </a:ln>
        </p:spPr>
      </p:cxnSp>
      <p:sp>
        <p:nvSpPr>
          <p:cNvPr id="628" name="TextBox 17"/>
          <p:cNvSpPr/>
          <p:nvPr/>
        </p:nvSpPr>
        <p:spPr>
          <a:xfrm>
            <a:off x="1798560" y="5791320"/>
            <a:ext cx="1418040" cy="3070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ction Process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alk!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6349"/>
                </a:solidFill>
                <a:latin typeface="Georgia"/>
              </a:rPr>
              <a:t>It Starts With Me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would you describe effective teach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 your school or district have a shared understanding of what kind of teaching you need in your classroom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yes, write down the shared vis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not, should you?  When a school does not have a shared understanding of effective teaching, what is the consequence on student learn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ere do you want to be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560" y="2057040"/>
            <a:ext cx="8504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Big Goal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y did you choose MAP?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do you hope to achiev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d16349"/>
                </a:solidFill>
                <a:latin typeface="Georgia"/>
              </a:rPr>
              <a:t>Smaller Goals-Measures of Suc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are you going to get ther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will it look lik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will you know you are making progres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3" name="Picture 2" descr="C:\Documents and Settings\janet.wheeler\Local Settings\Temporary Internet Files\Content.IE5\NQFIH4KI\MPj04286140000[1].jpg"/>
          <p:cNvPicPr/>
          <p:nvPr/>
        </p:nvPicPr>
        <p:blipFill>
          <a:blip r:embed="rId1"/>
          <a:stretch/>
        </p:blipFill>
        <p:spPr>
          <a:xfrm>
            <a:off x="5334120" y="1676520"/>
            <a:ext cx="312408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Plan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Begin with the end in mind . . 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Diagram 3" descr=""/>
          <p:cNvPicPr/>
          <p:nvPr/>
        </p:nvPicPr>
        <p:blipFill>
          <a:blip r:embed="rId1"/>
          <a:stretch/>
        </p:blipFill>
        <p:spPr>
          <a:xfrm>
            <a:off x="298440" y="1792440"/>
            <a:ext cx="8547120" cy="4657680"/>
          </a:xfrm>
          <a:prstGeom prst="rect">
            <a:avLst/>
          </a:prstGeom>
          <a:ln w="0">
            <a:noFill/>
          </a:ln>
        </p:spPr>
      </p:pic>
      <p:grpSp>
        <p:nvGrpSpPr>
          <p:cNvPr id="636" name="TextBox 4"/>
          <p:cNvGrpSpPr/>
          <p:nvPr/>
        </p:nvGrpSpPr>
        <p:grpSpPr>
          <a:xfrm>
            <a:off x="6428160" y="1779480"/>
            <a:ext cx="1826640" cy="609840"/>
            <a:chOff x="6428160" y="1779480"/>
            <a:chExt cx="1826640" cy="609840"/>
          </a:xfrm>
        </p:grpSpPr>
        <p:pic>
          <p:nvPicPr>
            <p:cNvPr id="637" name="TextBox 4" descr=""/>
            <p:cNvPicPr/>
            <p:nvPr/>
          </p:nvPicPr>
          <p:blipFill>
            <a:blip r:embed="rId2"/>
            <a:stretch/>
          </p:blipFill>
          <p:spPr>
            <a:xfrm>
              <a:off x="6450120" y="1779480"/>
              <a:ext cx="1779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6428160" y="1784520"/>
              <a:ext cx="182664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7b9899"/>
                  </a:solidFill>
                  <a:latin typeface="Georgia"/>
                </a:rPr>
                <a:t>The End</a:t>
              </a:r>
              <a:endParaRPr b="0" lang="en-US" sz="33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pic>
        <p:nvPicPr>
          <p:cNvPr id="639" name="Straight Arrow Connector 6" descr=""/>
          <p:cNvPicPr/>
          <p:nvPr/>
        </p:nvPicPr>
        <p:blipFill>
          <a:blip r:embed="rId3"/>
          <a:stretch/>
        </p:blipFill>
        <p:spPr>
          <a:xfrm>
            <a:off x="1504800" y="1852560"/>
            <a:ext cx="4883400" cy="64152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2"/>
          <p:cNvSpPr/>
          <p:nvPr/>
        </p:nvSpPr>
        <p:spPr>
          <a:xfrm>
            <a:off x="3210480" y="16765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6d7a"/>
                </a:solidFill>
                <a:latin typeface="Georgia"/>
              </a:rPr>
              <a:t>Plan backward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Make meaning of the data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96080" cy="5052960"/>
          </a:xfrm>
          <a:prstGeom prst="rect">
            <a:avLst/>
          </a:prstGeom>
          <a:ln w="0">
            <a:noFill/>
          </a:ln>
        </p:spPr>
      </p:pic>
      <p:sp>
        <p:nvSpPr>
          <p:cNvPr id="643" name="Right Arrow 4"/>
          <p:cNvSpPr/>
          <p:nvPr/>
        </p:nvSpPr>
        <p:spPr>
          <a:xfrm>
            <a:off x="2286000" y="6324480"/>
            <a:ext cx="533520" cy="25560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Oval 5"/>
          <p:cNvSpPr/>
          <p:nvPr/>
        </p:nvSpPr>
        <p:spPr>
          <a:xfrm>
            <a:off x="5575320" y="6311880"/>
            <a:ext cx="533520" cy="228600"/>
          </a:xfrm>
          <a:prstGeom prst="ellipse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Straight Connector 7"/>
          <p:cNvSpPr/>
          <p:nvPr/>
        </p:nvSpPr>
        <p:spPr>
          <a:xfrm flipV="1">
            <a:off x="6477120" y="6248160"/>
            <a:ext cx="457200" cy="7596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TextBox 8"/>
          <p:cNvSpPr/>
          <p:nvPr/>
        </p:nvSpPr>
        <p:spPr>
          <a:xfrm>
            <a:off x="6466320" y="596736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95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76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42,-9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0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16349"/>
                </a:solidFill>
                <a:latin typeface="Georgia"/>
              </a:rPr>
              <a:t>Do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 - Design your approac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8" name="Picture 2" descr="C:\Documents and Settings\andrew.bean\Desktop\slides\ir-0.jpg"/>
          <p:cNvPicPr/>
          <p:nvPr/>
        </p:nvPicPr>
        <p:blipFill>
          <a:blip r:embed="rId1"/>
          <a:stretch/>
        </p:blipFill>
        <p:spPr>
          <a:xfrm>
            <a:off x="1203480" y="1652760"/>
            <a:ext cx="67370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7:28:19Z</dcterms:created>
  <dc:creator>janet.wheeler</dc:creator>
  <dc:description/>
  <dc:language>en-US</dc:language>
  <cp:lastModifiedBy>CESA5</cp:lastModifiedBy>
  <dcterms:modified xsi:type="dcterms:W3CDTF">2008-04-10T15:13:29Z</dcterms:modified>
  <cp:revision>103</cp:revision>
  <dc:subject/>
  <dc:title>Unlocking Reports</dc:title>
</cp:coreProperties>
</file>