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png" ContentType="image/png"/>
  <Override PartName="/ppt/media/image7.png" ContentType="image/png"/>
  <Override PartName="/ppt/media/image11.jpeg" ContentType="image/jpeg"/>
  <Override PartName="/ppt/media/image18.png" ContentType="image/png"/>
  <Override PartName="/ppt/media/image17.jpeg" ContentType="image/jpeg"/>
  <Override PartName="/ppt/media/image16.png" ContentType="image/png"/>
  <Override PartName="/ppt/media/image14.wmf" ContentType="image/x-wmf"/>
  <Override PartName="/ppt/media/image1.png" ContentType="image/png"/>
  <Override PartName="/ppt/media/image15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B88E-7180-4A64-9D61-1BC120FDC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72E9-0E29-40AB-8AC6-6865AB2C7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BE66F2-9FDC-4306-A9DD-FD307FAF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76F35B-2EFA-482D-B7E1-BCE9A8693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71E191-4313-4A34-A037-748812B16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E13416-5E4E-49A7-BB41-CE743577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F138C7-91E8-4291-9B7B-A9D45AB9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AD9068-0E70-4424-BC54-3B7A317F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44A97C-8DF4-4AA9-94D1-D860B4922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547DF8-0F62-4486-9FA5-1AB4117A5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B4FE05-4D28-4368-AEE2-61720E114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4F30DB-86E6-49D4-8868-B8C7DB37F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77F1-A389-48A4-9436-F511A914D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B5D5BB-C2BC-428C-B4A1-265DFAC8E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25E749-71C0-48F2-88FA-8DEB37612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602D79-9625-47D9-94AB-32964F6D2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FF7B0C-8E03-46F6-A8B3-556AB1B62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6A3A3A-DBC1-4E21-A562-D8EBFA121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C6F52C-CA7E-48D6-BA12-6CD9A237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527A8B-7913-47E4-989F-E6D6B42E0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DBAE69-16A8-4071-8F15-AC9B26FB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C98227-69C9-4458-BE58-D0FEEE958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7ACAFF-5492-4DB9-8CB3-9F528E8B0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77E7-055E-4A6C-8F2C-D7130CF33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FF3EBA-31D5-4451-8402-3970C0E57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22123D-B3A4-4CC2-8FEA-30A78CC3E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FAA372-9DA5-49DE-8E38-1786554A9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208E75-566C-40A4-97A3-8664729A9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2E19E8-998A-4CE0-B0B1-05329CD2D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8371E9-9EEA-426C-B762-D8E0D83AF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2139DC-8854-4361-A89C-DA0023BD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FBBCC4-C628-40B4-9346-070AC52B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BEECD4-1AB6-453E-BC46-8653740B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E99BB4-D9AC-42FA-B8CE-1068CE68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618AB-8CC7-49AD-82F5-BC56BD598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D769BB-AC3C-4536-AC4C-FA5C2B76B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66A113-4D5D-40AD-8916-CDED447D3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A14B11-1A98-4944-A90F-A16215EDC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E5F14E-871E-4B07-8F37-92DE1BF31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CEDEBC-FC96-41EF-9F12-B044C220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06A6CB-2B7D-4E77-AC86-9F54517C8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0BA10A-E22F-4942-A1AD-E3A9F26C2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2320AE-055E-4107-BD39-AD68ED78E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063F84-39D1-4F6B-9BA9-628BEFD6D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7B713E-1B99-4AEB-8440-51D262F8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C1C6B-3107-4377-8D3A-6359E1771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4D4748-F5A0-4C0D-B849-034F2A6B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625183-22BB-44BD-B451-92373D25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FC7439-D1BC-47F8-91D1-611258619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7D776D-5890-47BE-9F2A-298019323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B97033-A2A6-4FDC-85AF-27E008E12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02D94-A057-4E31-93F4-73AB931D7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CD56B-38A5-41D9-9163-1A3EC2E5C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36F1E-06BA-403A-9FB3-318144F8F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4EF81-6545-47EB-8D58-980605E20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F501F-07A1-421F-BB1C-777BD16A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E7D5-D942-48E1-B43B-B2A32C060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40166-FEB5-4607-8E4B-59A64E42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E1909-D43D-429E-994B-1C9F72AB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25E0D-E9A5-4E0D-9531-24A60E4E7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29A3D-3C44-4DBC-80DA-2D81D0038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82162-FF91-4D1F-9F37-3216B277B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5BED0-3151-416D-A3E9-73176188E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F1A91-E76C-46E9-98AF-220DBF114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52CB7-99BA-4926-A89A-67E59AF78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4324F-8F57-4306-9936-99BE620B3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8A6A6-C867-494A-BC4E-54C68FB3B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312E-C973-4542-B90B-2AE2F8960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E31A1-FDE5-4C98-B7D1-20AA190F5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3EE51-4576-4C51-8538-1624E647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ECB5B-A415-4950-8AD2-D204CD37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0AD15-D249-45EE-B010-302ED0D9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0CC56-50A3-4572-94D4-7AB1B93F5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C166B-5BC2-4F8B-97BB-4CC5664D6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D549A-7987-4EEF-8B6C-F650007A2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869B5-CDC8-42C0-B38F-114D4F916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60B5B-05A3-4B90-AD93-C871D2CFA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3FED0-F308-4726-8339-3A9747802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60BA-550A-4EA8-8E11-7DC320C3D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FE5EA-202A-413E-8951-E5E4A5AAA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FE0DE-0E51-46B2-8587-21A4539E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9D785-4044-4A98-B3F5-7F0C20266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5D6F5-F104-43FB-BDCE-EC1937C3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7F7C2-FD32-4C03-A1E7-86A4E30F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02EF4-42F3-4397-BCA1-9B0D8657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0FC14-1BA2-4957-8B5C-E40AA7B75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3CBB5-6428-492B-8D24-1C99878C6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2277C-7C10-4487-A2E3-56B7DA10B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1945B-3449-434D-ABB2-F59E4BEA3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2330-EC1B-4FD2-B1AE-BD5DA8F28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DE1A8-3253-4798-B0DA-4331AFAC0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DB659-8898-4E8D-B860-9B8CC4C92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85DE5-DB1F-4516-A8B8-5B3EEAC79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9B287-513E-4033-902B-660DF232B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97D52-6A94-4DAE-958E-66101390D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5FDBA-34C6-41E6-8260-9AD71DB5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0FB31-5836-442D-8249-6026A5F3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1D81E-DD3F-45E7-92CA-3727A1EA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F12AA-7FCF-40A7-A0FA-8E724F52C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21564-0C96-43B7-8EE7-C5E24FD3E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F4FF-2904-4CD8-89A5-194E53A87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CE8DE-1301-454B-952A-DFB61CF77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F6CA5-936C-4D34-A855-BC55DA67C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4C611-95D6-4094-81E2-839886C0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404C4-873F-4980-BCA4-83634D3CA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D19C8-BB3A-470D-9CCA-A24BB52AD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77F5E-6F28-46A4-92AD-E24B2990A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33036-0D21-40E7-ACFD-DD948093E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DF8B0-503D-457F-8B02-607CA76E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E4145-E2BE-446F-9433-DCAAD769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529B5-1EFD-4611-BFEF-A93F4F44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98E3-7041-4EB6-8FDD-B67BD1DA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F57BF-86D6-4F46-93AA-B11D7388C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76801-9F98-4424-87A0-E1B871307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3004EA-BDEB-4532-A2FF-E971B5481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D1D9E-A805-4671-9A31-573A04825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3F10E3-5538-4117-8818-F93822350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BEE0B3-0DBC-4101-97A1-39E7BBB17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A0D2F-A1EC-4163-9854-7FEBA423C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5DABEA-2BC3-48E2-A9F3-8DC2DC2C9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D6C7D-CD2C-4619-BFEF-FBDB8B8B9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2A242-8D06-4202-8F80-2CCD39E4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2EED-FD51-4E54-AB2F-C108EF64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D5A5C2-A78C-4D68-B12F-608E373B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62C72E-D948-48E0-B134-1EC64FB6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37713-AC57-4380-B80B-FF1971557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19E3FE-DFC4-4A31-8CFE-BE7D3DDF1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46E4A-ACCF-4EAA-8577-2D8ECD202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75306D-4971-41E1-AE6E-C62A0FE4B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76836D-855A-474E-A7DA-92497FD60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6485C9-1CB0-45D4-9832-71E6106C4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5EBF0C-BCE5-4341-9F78-2D03786B0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2709AE-A147-4480-8424-D04B8C6D3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9C09-D08B-4BD6-8B61-CC818B90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9CE9B-74C2-435F-A4F4-22B7C7EE9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2AA5C6-7AC6-4F54-BD22-1CBDED68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F29D37-D76A-4FE7-A470-26F1552C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F18F3B-2B13-41F8-BB2A-6C66A912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2F23E9-4830-487D-A802-D21384F5E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43A41F-585A-4A61-9236-B97EF3C13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16B43-821D-421D-B062-457A847EF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DCE726-AE6C-4F0E-BB3D-52ADFC8E5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3C8063-6E10-44B1-8B71-569A31AB6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E46ACD-8920-4F97-BDDA-147CAE43F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A6D5A-A549-458C-A618-73C4255DB8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1ABBB-D305-4CA5-ABCF-FA6E750982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ECB25-6EB2-4692-9387-526ED8E198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9B46D-A3C2-443D-B1E7-8ED024FC20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5FCC6-D511-4F43-98AD-0F2EBC3B7E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5707A-A816-4D8D-B6D9-74DB8DB99E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01F03-6A1A-47A1-997D-3DF82F5CC9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77A35-11B6-44FA-88F0-DA8DD541B7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4736-AC1A-4E11-945A-B4D281500E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23943-1648-432E-B3C0-2B8184B138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9506E-66C2-40AF-B1E3-BE26C547C81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40A06-B818-4DD4-A9E0-EB02C169AA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143000" y="4571640"/>
            <a:ext cx="685800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CESA 5 MAP USER’S GROUP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SPRING 2008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380520" y="2743200"/>
            <a:ext cx="8458200" cy="18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6349"/>
                </a:solidFill>
                <a:latin typeface="Century Gothic"/>
              </a:rPr>
              <a:t>Unlocking Reports </a:t>
            </a:r>
            <a:br>
              <a:rPr sz="3600"/>
            </a:br>
            <a:r>
              <a:rPr b="0" lang="en-US" sz="2800" spc="-1" strike="noStrike">
                <a:solidFill>
                  <a:srgbClr val="d16349"/>
                </a:solidFill>
                <a:latin typeface="Century Gothic"/>
              </a:rPr>
              <a:t>to</a:t>
            </a:r>
            <a:r>
              <a:rPr b="0" lang="en-US" sz="3600" spc="-1" strike="noStrike">
                <a:solidFill>
                  <a:srgbClr val="d16349"/>
                </a:solidFill>
                <a:latin typeface="Century Gothic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d16349"/>
                </a:solidFill>
                <a:latin typeface="Century Gothic"/>
              </a:rPr>
              <a:t>Reach Your Goals</a:t>
            </a:r>
            <a:br>
              <a:rPr sz="3600"/>
            </a:b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8" name="Picture 3" descr="NWEA (color) web.gif"/>
          <p:cNvPicPr/>
          <p:nvPr/>
        </p:nvPicPr>
        <p:blipFill>
          <a:blip r:embed="rId1"/>
          <a:stretch/>
        </p:blipFill>
        <p:spPr>
          <a:xfrm>
            <a:off x="3041640" y="395280"/>
            <a:ext cx="3086280" cy="1609560"/>
          </a:xfrm>
          <a:prstGeom prst="rect">
            <a:avLst/>
          </a:prstGeom>
          <a:ln w="0">
            <a:noFill/>
          </a:ln>
        </p:spPr>
      </p:pic>
      <p:sp>
        <p:nvSpPr>
          <p:cNvPr id="609" name="TextBox 4"/>
          <p:cNvSpPr/>
          <p:nvPr/>
        </p:nvSpPr>
        <p:spPr>
          <a:xfrm>
            <a:off x="2711160" y="5562720"/>
            <a:ext cx="371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Janet Wheel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Partner Relations Representativ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1320" y="151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reate focus-target an area of need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50" name="Picture 2" descr="C:\Documents and Settings\andrew.bean\Desktop\slides\ir-1.jpg"/>
          <p:cNvPicPr/>
          <p:nvPr/>
        </p:nvPicPr>
        <p:blipFill>
          <a:blip r:embed="rId1"/>
          <a:stretch/>
        </p:blipFill>
        <p:spPr>
          <a:xfrm>
            <a:off x="1235160" y="1636560"/>
            <a:ext cx="665316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01320" y="17136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Incorporate Strategi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52" name="Picture 4" descr=""/>
          <p:cNvPicPr/>
          <p:nvPr/>
        </p:nvPicPr>
        <p:blipFill>
          <a:blip r:embed="rId1"/>
          <a:stretch/>
        </p:blipFill>
        <p:spPr>
          <a:xfrm>
            <a:off x="650880" y="1628640"/>
            <a:ext cx="7815240" cy="50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Incorporate Strategi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304560" y="2285640"/>
            <a:ext cx="8504280" cy="24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eet the needs of all student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apitalize on the knowledge and experience of  your colleagu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ork as a tea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5" name="Picture 6" descr="C:\Documents and Settings\janet.wheeler\Local Settings\Temporary Internet Files\Content.IE5\K7V2TS8C\MCj02304000000[1].wmf"/>
          <p:cNvPicPr/>
          <p:nvPr/>
        </p:nvPicPr>
        <p:blipFill>
          <a:blip r:embed="rId1"/>
          <a:stretch/>
        </p:blipFill>
        <p:spPr>
          <a:xfrm>
            <a:off x="3809880" y="3352680"/>
            <a:ext cx="1494000" cy="33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01320" y="147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pply what you know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57" name="Picture 2" descr=""/>
          <p:cNvPicPr/>
          <p:nvPr/>
        </p:nvPicPr>
        <p:blipFill>
          <a:blip r:embed="rId1"/>
          <a:stretch/>
        </p:blipFill>
        <p:spPr>
          <a:xfrm>
            <a:off x="187200" y="1614600"/>
            <a:ext cx="8763120" cy="4938480"/>
          </a:xfrm>
          <a:prstGeom prst="rect">
            <a:avLst/>
          </a:prstGeom>
          <a:ln w="0">
            <a:noFill/>
          </a:ln>
        </p:spPr>
      </p:pic>
      <p:cxnSp>
        <p:nvCxnSpPr>
          <p:cNvPr id="658" name="Straight Arrow Connector 6"/>
          <p:cNvCxnSpPr/>
          <p:nvPr/>
        </p:nvCxnSpPr>
        <p:spPr>
          <a:xfrm>
            <a:off x="2590560" y="2849040"/>
            <a:ext cx="533880" cy="2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659" name="Straight Arrow Connector 7"/>
          <p:cNvCxnSpPr/>
          <p:nvPr/>
        </p:nvCxnSpPr>
        <p:spPr>
          <a:xfrm>
            <a:off x="2568600" y="3102120"/>
            <a:ext cx="534240" cy="216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660" name="Straight Arrow Connector 8"/>
          <p:cNvCxnSpPr/>
          <p:nvPr/>
        </p:nvCxnSpPr>
        <p:spPr>
          <a:xfrm>
            <a:off x="2514600" y="4114800"/>
            <a:ext cx="534240" cy="216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661" name="Oval 9"/>
          <p:cNvSpPr/>
          <p:nvPr/>
        </p:nvSpPr>
        <p:spPr>
          <a:xfrm>
            <a:off x="3276720" y="2209680"/>
            <a:ext cx="2590560" cy="533520"/>
          </a:xfrm>
          <a:prstGeom prst="ellipse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d16349"/>
                </a:solidFill>
                <a:latin typeface="Georgia"/>
              </a:rPr>
              <a:t>Study</a:t>
            </a:r>
            <a:r>
              <a:rPr b="0" lang="en-US" sz="3300" spc="-1" strike="noStrike">
                <a:solidFill>
                  <a:srgbClr val="88a1ad"/>
                </a:solidFill>
                <a:latin typeface="Georgia"/>
              </a:rPr>
              <a:t> – Assess Your Progres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304560" y="1828800"/>
            <a:ext cx="8504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o we have a shared vision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ow has using data provided opportunities for sharing with my colleagues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o I see evidence of student growth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ave we created a cycle of continuous improvement?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d16349"/>
                </a:solidFill>
                <a:latin typeface="Georgia"/>
              </a:rPr>
              <a:t>Act</a:t>
            </a: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-Begin somewhere!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304560" y="1904760"/>
            <a:ext cx="8504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Use the data to change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instructional focus (targeted areas of concern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curriculum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instructional strategies (flexible grouping, differentiated instruction, etc.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hare with my colleagues-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uccessful strategi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Resources and material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Planning Tim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ersistence . . . not perfec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67" name="Content Placeholder 3" descr=""/>
          <p:cNvPicPr/>
          <p:nvPr/>
        </p:nvPicPr>
        <p:blipFill>
          <a:blip r:embed="rId1"/>
          <a:stretch/>
        </p:blipFill>
        <p:spPr>
          <a:xfrm>
            <a:off x="298440" y="1663560"/>
            <a:ext cx="851688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isdom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301320" y="1526760"/>
            <a:ext cx="850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Begin challenging your own assumptions. 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Your assumptions are your windows on the world. 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Scrub them off every once in awhile, or the light won’t come in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Alan Alda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0" name="Picture 4" descr="image027.jpg"/>
          <p:cNvPicPr/>
          <p:nvPr/>
        </p:nvPicPr>
        <p:blipFill>
          <a:blip r:embed="rId1"/>
          <a:srcRect l="0" t="12000" r="13434" b="0"/>
          <a:stretch/>
        </p:blipFill>
        <p:spPr>
          <a:xfrm>
            <a:off x="3122640" y="1697040"/>
            <a:ext cx="2886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Go forth . . . . . . have fun!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72" name="Why buy expensive toys.wmv" descr=""/>
          <p:cNvPicPr/>
          <p:nvPr/>
        </p:nvPicPr>
        <p:blipFill>
          <a:blip r:embed="rId1"/>
          <a:stretch/>
        </p:blipFill>
        <p:spPr>
          <a:xfrm>
            <a:off x="2678040" y="2257560"/>
            <a:ext cx="3810240" cy="2857320"/>
          </a:xfrm>
          <a:prstGeom prst="rect">
            <a:avLst/>
          </a:prstGeom>
          <a:ln w="0">
            <a:noFill/>
          </a:ln>
        </p:spPr>
      </p:pic>
      <p:sp>
        <p:nvSpPr>
          <p:cNvPr id="673" name="TextBox 3"/>
          <p:cNvSpPr/>
          <p:nvPr/>
        </p:nvSpPr>
        <p:spPr>
          <a:xfrm>
            <a:off x="563400" y="5546880"/>
            <a:ext cx="80773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HANK YOU for all you do for kids!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80480" fill="hold"/>
                                        <p:tgtEl>
                                          <p:spTgt spid="6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672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672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7" dur="1" fill="hold"/>
                                        <p:tgtEl>
                                          <p:spTgt spid="6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ssessment should make a differenc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grpSp>
        <p:nvGrpSpPr>
          <p:cNvPr id="611" name="Flowchart: Extract 3"/>
          <p:cNvGrpSpPr/>
          <p:nvPr/>
        </p:nvGrpSpPr>
        <p:grpSpPr>
          <a:xfrm>
            <a:off x="2182680" y="1444680"/>
            <a:ext cx="4767480" cy="4809960"/>
            <a:chOff x="2182680" y="1444680"/>
            <a:chExt cx="4767480" cy="4809960"/>
          </a:xfrm>
        </p:grpSpPr>
        <p:pic>
          <p:nvPicPr>
            <p:cNvPr id="612" name="Flowchart: Extract 3" descr=""/>
            <p:cNvPicPr/>
            <p:nvPr/>
          </p:nvPicPr>
          <p:blipFill>
            <a:blip r:embed="rId1"/>
            <a:stretch/>
          </p:blipFill>
          <p:spPr>
            <a:xfrm>
              <a:off x="2182680" y="1444680"/>
              <a:ext cx="4767480" cy="48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3" name=""/>
            <p:cNvSpPr/>
            <p:nvPr/>
          </p:nvSpPr>
          <p:spPr>
            <a:xfrm>
              <a:off x="3452760" y="3848040"/>
              <a:ext cx="2225880" cy="22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614" name="TextBox 17"/>
          <p:cNvSpPr/>
          <p:nvPr/>
        </p:nvSpPr>
        <p:spPr>
          <a:xfrm>
            <a:off x="3968640" y="2530440"/>
            <a:ext cx="119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State Test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5" name="TextBox 18"/>
          <p:cNvSpPr/>
          <p:nvPr/>
        </p:nvSpPr>
        <p:spPr>
          <a:xfrm>
            <a:off x="5411160" y="5505480"/>
            <a:ext cx="79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NWEA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TextBox 19"/>
          <p:cNvSpPr/>
          <p:nvPr/>
        </p:nvSpPr>
        <p:spPr>
          <a:xfrm>
            <a:off x="2713320" y="5334120"/>
            <a:ext cx="148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Classroom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Assessment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7" name="Picture 11" descr="C:\Documents and Settings\janet.wheeler\Local Settings\Temporary Internet Files\Content.IE5\DW0RP42Z\MPj04265620000[1].jpg"/>
          <p:cNvPicPr/>
          <p:nvPr/>
        </p:nvPicPr>
        <p:blipFill>
          <a:blip r:embed="rId2"/>
          <a:stretch/>
        </p:blipFill>
        <p:spPr>
          <a:xfrm>
            <a:off x="3730680" y="3352680"/>
            <a:ext cx="1676520" cy="1828800"/>
          </a:xfrm>
          <a:prstGeom prst="rect">
            <a:avLst/>
          </a:prstGeom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I have MAP data . . . now what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9" name="Picture 2" descr=""/>
          <p:cNvPicPr/>
          <p:nvPr/>
        </p:nvPicPr>
        <p:blipFill>
          <a:blip r:embed="rId1"/>
          <a:stretch/>
        </p:blipFill>
        <p:spPr>
          <a:xfrm>
            <a:off x="1905120" y="2209680"/>
            <a:ext cx="527184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How do you create a shared vision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4560" y="1599840"/>
            <a:ext cx="85042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tools for improving instruction include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aying the founda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esigning your approach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reating a culture of continuous improvemen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2" name="Diagram 3" descr=""/>
          <p:cNvPicPr/>
          <p:nvPr/>
        </p:nvPicPr>
        <p:blipFill>
          <a:blip r:embed="rId1"/>
          <a:stretch/>
        </p:blipFill>
        <p:spPr>
          <a:xfrm>
            <a:off x="2610000" y="3419640"/>
            <a:ext cx="4028760" cy="3193920"/>
          </a:xfrm>
          <a:prstGeom prst="rect">
            <a:avLst/>
          </a:prstGeom>
          <a:ln w="0">
            <a:noFill/>
          </a:ln>
        </p:spPr>
      </p:pic>
      <p:cxnSp>
        <p:nvCxnSpPr>
          <p:cNvPr id="623" name="Straight Arrow Connector 5"/>
          <p:cNvCxnSpPr/>
          <p:nvPr/>
        </p:nvCxnSpPr>
        <p:spPr>
          <a:xfrm flipH="1">
            <a:off x="4605120" y="4267080"/>
            <a:ext cx="2160" cy="1526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24" name="Straight Arrow Connector 8"/>
          <p:cNvCxnSpPr/>
          <p:nvPr/>
        </p:nvCxnSpPr>
        <p:spPr>
          <a:xfrm>
            <a:off x="3885840" y="5017680"/>
            <a:ext cx="1524600" cy="2520"/>
          </a:xfrm>
          <a:prstGeom prst="straightConnector1">
            <a:avLst/>
          </a:prstGeom>
          <a:ln w="28440">
            <a:solidFill>
              <a:srgbClr val="ffe947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25" name="Curved Connector 11"/>
          <p:cNvCxnSpPr/>
          <p:nvPr/>
        </p:nvCxnSpPr>
        <p:spPr>
          <a:xfrm flipV="1">
            <a:off x="4648320" y="3885480"/>
            <a:ext cx="1296000" cy="762840"/>
          </a:xfrm>
          <a:prstGeom prst="curvedConnector5">
            <a:avLst>
              <a:gd name="adj1" fmla="val 49986"/>
              <a:gd name="adj2" fmla="val 50000"/>
              <a:gd name="adj3" fmla="val 49986"/>
            </a:avLst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6" name="TextBox 12"/>
          <p:cNvSpPr/>
          <p:nvPr/>
        </p:nvSpPr>
        <p:spPr>
          <a:xfrm>
            <a:off x="5946120" y="3708360"/>
            <a:ext cx="1701720" cy="3070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Reflective Process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627" name="Curved Connector 15"/>
          <p:cNvCxnSpPr/>
          <p:nvPr/>
        </p:nvCxnSpPr>
        <p:spPr>
          <a:xfrm flipV="1" rot="10800000">
            <a:off x="3276000" y="5105160"/>
            <a:ext cx="91512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28440">
            <a:solidFill>
              <a:srgbClr val="ffe947"/>
            </a:solidFill>
            <a:miter/>
            <a:tailEnd len="med" type="arrow" w="med"/>
          </a:ln>
        </p:spPr>
      </p:cxnSp>
      <p:sp>
        <p:nvSpPr>
          <p:cNvPr id="628" name="TextBox 17"/>
          <p:cNvSpPr/>
          <p:nvPr/>
        </p:nvSpPr>
        <p:spPr>
          <a:xfrm>
            <a:off x="1798560" y="5791320"/>
            <a:ext cx="1418040" cy="3070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Action Process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alk!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6349"/>
                </a:solidFill>
                <a:latin typeface="Georgia"/>
              </a:rPr>
              <a:t>It Starts With Me!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ow would you describe effective teaching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oes your school or district have a shared understanding of what kind of teaching you need in your classrooms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f yes, write down the shared visio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f not, should you?  When a school does not have a shared understanding of effective teaching, what is the consequence on student learning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here do you want to be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04560" y="2057040"/>
            <a:ext cx="8504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d16349"/>
                </a:solidFill>
                <a:latin typeface="Georgia"/>
              </a:rPr>
              <a:t>Big Goal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hy did you choose MAP?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hat do you hope to achieve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d16349"/>
                </a:solidFill>
                <a:latin typeface="Georgia"/>
              </a:rPr>
              <a:t>Smaller Goals-Measures of Succes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ow are you going to get there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hat will it look like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ow will you know you are making progress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3" name="Picture 2" descr="C:\Documents and Settings\janet.wheeler\Local Settings\Temporary Internet Files\Content.IE5\NQFIH4KI\MPj04286140000[1].jpg"/>
          <p:cNvPicPr/>
          <p:nvPr/>
        </p:nvPicPr>
        <p:blipFill>
          <a:blip r:embed="rId1"/>
          <a:stretch/>
        </p:blipFill>
        <p:spPr>
          <a:xfrm>
            <a:off x="5334120" y="1676520"/>
            <a:ext cx="3124080" cy="21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d16349"/>
                </a:solidFill>
                <a:latin typeface="Georgia"/>
              </a:rPr>
              <a:t>Plan</a:t>
            </a: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 - Begin with the end in mind . . 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5" name="Diagram 3" descr=""/>
          <p:cNvPicPr/>
          <p:nvPr/>
        </p:nvPicPr>
        <p:blipFill>
          <a:blip r:embed="rId1"/>
          <a:stretch/>
        </p:blipFill>
        <p:spPr>
          <a:xfrm>
            <a:off x="298440" y="1792440"/>
            <a:ext cx="8547120" cy="4657680"/>
          </a:xfrm>
          <a:prstGeom prst="rect">
            <a:avLst/>
          </a:prstGeom>
          <a:ln w="0">
            <a:noFill/>
          </a:ln>
        </p:spPr>
      </p:pic>
      <p:grpSp>
        <p:nvGrpSpPr>
          <p:cNvPr id="636" name="TextBox 4"/>
          <p:cNvGrpSpPr/>
          <p:nvPr/>
        </p:nvGrpSpPr>
        <p:grpSpPr>
          <a:xfrm>
            <a:off x="6428160" y="1779480"/>
            <a:ext cx="1826640" cy="609840"/>
            <a:chOff x="6428160" y="1779480"/>
            <a:chExt cx="1826640" cy="609840"/>
          </a:xfrm>
        </p:grpSpPr>
        <p:pic>
          <p:nvPicPr>
            <p:cNvPr id="637" name="TextBox 4" descr=""/>
            <p:cNvPicPr/>
            <p:nvPr/>
          </p:nvPicPr>
          <p:blipFill>
            <a:blip r:embed="rId2"/>
            <a:stretch/>
          </p:blipFill>
          <p:spPr>
            <a:xfrm>
              <a:off x="6450120" y="1779480"/>
              <a:ext cx="177948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6428160" y="1784520"/>
              <a:ext cx="182664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7b9899"/>
                  </a:solidFill>
                  <a:latin typeface="Georgia"/>
                </a:rPr>
                <a:t>The End</a:t>
              </a:r>
              <a:endParaRPr b="0" lang="en-US" sz="33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pic>
        <p:nvPicPr>
          <p:cNvPr id="639" name="Straight Arrow Connector 6" descr=""/>
          <p:cNvPicPr/>
          <p:nvPr/>
        </p:nvPicPr>
        <p:blipFill>
          <a:blip r:embed="rId3"/>
          <a:stretch/>
        </p:blipFill>
        <p:spPr>
          <a:xfrm>
            <a:off x="1504800" y="1852560"/>
            <a:ext cx="4883400" cy="641520"/>
          </a:xfrm>
          <a:prstGeom prst="rect">
            <a:avLst/>
          </a:prstGeom>
          <a:ln w="0">
            <a:noFill/>
          </a:ln>
        </p:spPr>
      </p:pic>
      <p:sp>
        <p:nvSpPr>
          <p:cNvPr id="640" name="TextBox 12"/>
          <p:cNvSpPr/>
          <p:nvPr/>
        </p:nvSpPr>
        <p:spPr>
          <a:xfrm>
            <a:off x="3210480" y="16765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6d7a"/>
                </a:solidFill>
                <a:latin typeface="Georgia"/>
              </a:rPr>
              <a:t>Plan backward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Make meaning of the data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2" name="Picture 2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696080" cy="5052960"/>
          </a:xfrm>
          <a:prstGeom prst="rect">
            <a:avLst/>
          </a:prstGeom>
          <a:ln w="0">
            <a:noFill/>
          </a:ln>
        </p:spPr>
      </p:pic>
      <p:sp>
        <p:nvSpPr>
          <p:cNvPr id="643" name="Right Arrow 4"/>
          <p:cNvSpPr/>
          <p:nvPr/>
        </p:nvSpPr>
        <p:spPr>
          <a:xfrm>
            <a:off x="2286000" y="6324480"/>
            <a:ext cx="533520" cy="255600"/>
          </a:xfrm>
          <a:prstGeom prst="rightArrow">
            <a:avLst>
              <a:gd name="adj1" fmla="val 50000"/>
              <a:gd name="adj2" fmla="val 50096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Oval 5"/>
          <p:cNvSpPr/>
          <p:nvPr/>
        </p:nvSpPr>
        <p:spPr>
          <a:xfrm>
            <a:off x="5575320" y="6311880"/>
            <a:ext cx="533520" cy="228600"/>
          </a:xfrm>
          <a:prstGeom prst="ellipse">
            <a:avLst/>
          </a:pr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Straight Connector 7"/>
          <p:cNvSpPr/>
          <p:nvPr/>
        </p:nvSpPr>
        <p:spPr>
          <a:xfrm flipV="1">
            <a:off x="6477120" y="6248160"/>
            <a:ext cx="457200" cy="75960"/>
          </a:xfrm>
          <a:prstGeom prst="line">
            <a:avLst/>
          </a:prstGeom>
          <a:ln w="2844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6" name="TextBox 8"/>
          <p:cNvSpPr/>
          <p:nvPr/>
        </p:nvSpPr>
        <p:spPr>
          <a:xfrm>
            <a:off x="6466320" y="596736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95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10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10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0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d16349"/>
                </a:solidFill>
                <a:latin typeface="Georgia"/>
              </a:rPr>
              <a:t>Do</a:t>
            </a: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 - Design your approach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8" name="Picture 2" descr="C:\Documents and Settings\andrew.bean\Desktop\slides\ir-0.jpg"/>
          <p:cNvPicPr/>
          <p:nvPr/>
        </p:nvPicPr>
        <p:blipFill>
          <a:blip r:embed="rId1"/>
          <a:stretch/>
        </p:blipFill>
        <p:spPr>
          <a:xfrm>
            <a:off x="1203480" y="1652760"/>
            <a:ext cx="673704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0T17:28:19Z</dcterms:created>
  <dc:creator>janet.wheeler</dc:creator>
  <dc:description/>
  <dc:language>en-US</dc:language>
  <cp:lastModifiedBy>CESA5</cp:lastModifiedBy>
  <dcterms:modified xsi:type="dcterms:W3CDTF">2008-04-10T15:13:29Z</dcterms:modified>
  <cp:revision>103</cp:revision>
  <dc:subject/>
  <dc:title>Unlocking Reports</dc:title>
</cp:coreProperties>
</file>