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18.png" ContentType="image/png"/>
  <Override PartName="/ppt/media/image17.jpeg" ContentType="image/jpeg"/>
  <Override PartName="/ppt/media/image16.png" ContentType="image/png"/>
  <Override PartName="/ppt/media/image14.wmf" ContentType="image/x-wmf"/>
  <Override PartName="/ppt/media/image1.png" ContentType="image/png"/>
  <Override PartName="/ppt/media/image15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CEF2-1732-450C-A10B-3A88F3FC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891-5C2B-4283-9171-48058E27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A833C-8E36-4F1F-806A-4CCD29CB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EFF377-81BF-4980-956C-2C32BAA6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530B3-4A3D-475F-B03D-9E497F96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5FF4FE-BFA1-4DD4-9D7B-BD9A6ED0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A7A424-C3E3-4F7D-AAE9-605EECCE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A36DBC-BC06-4928-A91B-77AA9FCD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B93BCB-EF3A-48A4-B5BB-6EC028F3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AB68C-B2CA-433B-8771-C665B2AF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799ADE-3924-47AD-862E-226F19C0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771944-C52A-47EB-B3C5-17BA9FFE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530D-53FA-4D2A-9663-A075863B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27D11-2EA1-4A4B-9C14-2A839AB7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14AF90-19F5-4E1C-A6C4-6CB26303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30D5C-03FB-4917-A49C-7FCE6271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90675-1384-476E-97E8-46F86CCD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4EB8C3-91AE-4BC2-9AF5-5FB53538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3B2700-7FD5-49E8-94BC-95B62174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FEF76C-CCEF-4209-9B6B-4385DDEC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E8622E-8E4C-43C4-8CFA-89DF6985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3FE312-48E6-4316-9BF3-65267F2A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8D4566-C1DB-47B5-8FEE-DD4E153C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043-9EE9-427C-8478-0B065CAD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C1B72-5C86-43E4-9307-10BA0FBA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DB45E-43FC-48F5-BEC4-BF33D728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E44DA-8955-4CA4-88A1-38B8703E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B5BF3-16A0-4EE6-8CB8-18FC09CD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F0DF9-CD2A-4A84-9452-460E0967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E8CF0-581E-44BB-92A2-89B23B32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5C4BC-44D1-4CD7-8399-897C3659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7B8E9-9437-4551-B154-AF86E8CD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716E9-FF5E-443B-9087-EC7594F9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00D9E-91D2-4B18-8E08-A3DAF7E8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D24E-B67E-4503-A5CE-BD89F93D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BC88C-70B4-409F-BAE1-5B5F684E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DB447-DEB2-4EDF-BBDA-69CAA455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CE70D-D2DE-4462-9446-8F011789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BF671-C526-40C2-A449-AD0961D1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A5E183-1666-4F3B-B8A7-0C5CA05C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551654-4BFC-4F71-9F12-75E4B0B1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59D3FC-ED5B-47DA-9A19-446A0503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0A619E-3B89-4521-8A98-D5CCBB54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3D5A8B-32AE-4AC9-8079-843ADABF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087AA2-2B42-43E5-B13E-267D754B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7292-C5BD-4E03-A451-B0156884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0B1C1-E685-4E8E-BBFE-855DF826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08A942-576C-4EC3-9DF4-D29F9766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8E804-DE25-4743-A2B3-47F1FF41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0F8E41-E483-4967-B0C7-6642B1CB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CF3DB0-9672-4AEF-A053-DE593710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232B-47E6-42C1-A421-369C1659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F022-1199-405F-B909-F63482A6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0563-E3E9-41EA-9F6A-D40B34C3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C14B-5096-44CD-A09D-359C6ABD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77FC-5322-405A-82E9-9E6EB83A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52C-90D0-453B-BBBC-7FF7BF7C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CF65-DF6E-4BA9-BEC2-B9B1C22F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0447-2D82-4433-8214-475CE0D5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0FA6-73F3-436C-86F1-99B3B9EF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A61B-3E2E-4C4B-94BB-D1CA3D40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FFC6-5303-4463-BF99-7861A872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B8DE0-BE3F-4793-9381-FF4DC0D1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8CF52-86E4-4AFC-8830-9764F4D7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E6E85-1457-44DE-9133-AC06DCC8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D3CCC-1FE3-48A5-9B4D-6ACD2D5C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9F88E-1908-422E-B3EF-F4C3D8EA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AB9E-9A5B-4ADC-9143-0E9D8FAE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FE046-5B84-4810-B2FC-85893A78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1D89F-2E47-4C12-9404-566F4FC6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FA4AB-DA5F-4761-9E8B-10891D25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F34F3-DB66-47F7-BC44-CEE541BA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2323D-CA49-43B4-BD71-7DBD2D6D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41042-9721-4986-828A-8729080B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A3BF4-4A20-4DB5-934B-FEFC17DF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DA710-15D0-4E52-8F1A-2FDE8B67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82A69-D861-4A2A-9D30-BB1E1CE8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1C438-6564-41DA-BD19-3564005B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401-3E15-4F25-9E88-FD09FFA2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D1648-489C-4B32-8717-03D3D7B1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FD834-FF4B-44FD-B693-C1D47C53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C2DDC-B458-43DB-BF10-9337DDA8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A2E91-3816-4E20-B7E0-4E3AA82A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9E545-5EB1-48B1-8102-1EE20EB1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A88A1-EE65-4F19-B706-398B8F38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04E08-F902-43E2-8B75-90B8B387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F4854-8D88-40E1-A29F-A1CCE0D2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E06BA-5BB2-4C13-92A4-3464EC01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D923C-A03F-474C-86CA-3ABACBA4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64E-1709-48D1-8D79-AFE57753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7E26D-04F9-40DA-86AA-56D57B72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3A3C5-6696-4AF1-8088-EEFEEE8E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DFEB7-40FD-493F-A4D6-220EDBC1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DB2A8-6BE7-43FF-8B31-67C27292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C4D0A-A874-4B98-8556-05EB6929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58166-58A4-4FE7-8454-E8448124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5584C-E202-4E9A-B90D-189D2716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DC8AB-FFF8-433A-8534-9680409E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23DF4-E730-4F77-8522-B5C1E594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0BFDD-0669-4D69-A854-AB52CD38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812-24E3-4853-9503-86E94D95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ACE44-2EB1-4867-AD0B-65D1B722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8D991-612D-4A8A-ABF2-018158C4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1F590-B01F-470F-B83F-FD0D332A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46662-049D-4DC3-A9C7-74CC18C9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24771-EDDC-45F6-9EC8-FCA5031F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57845-BC3B-4742-9BD5-4EE785F6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CD288-CE77-40BD-83B6-C75940FB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72611-4F01-4A78-BFDC-83F269E2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E83D5-2B3E-4FDC-9A51-91F14483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D47DD-8F3D-4153-9D6B-693A6FBA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4E04-42B3-4CB5-BC49-D249CF2D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06101-94CC-4AA8-8339-51E42DAF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C5BB2-141B-4AE6-B4DA-B47F018B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4616C-14EA-424E-84C3-7C71837D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0E459-B8A2-40FD-AE1A-317A539C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4DD3F-6D8F-443A-96E1-575F1AE2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60398-1772-4195-AC1E-23713CD8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C653F-B29D-43B2-BEB8-793D6B75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D8AEF-6012-49A9-A199-8EBA23B0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65BC7-4847-4F36-BEFD-420239A4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24E21-9757-4144-B4C9-537BA8A7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B96-EDE8-4BF5-8836-A4E7F2B0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E2909-EEDC-406A-A085-FF019A3F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0DC22-1FBF-42B6-9C49-FB7CCCB5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D4615-D84F-492A-8BB7-7C47323F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BE17F-7FBD-4CA2-BF34-0B1682F3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85444-C83C-4853-B0C2-9C3B9459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E3AA1-0132-4642-833A-A471A890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B8CBA-6899-47E8-9639-A1E37F41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8ED63-A330-4F52-BBAA-A03B155D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5DE2E-001F-4F8C-ADA3-81C88EB6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D2A2C-29BF-4713-BF53-E69E1A81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83F-1071-4965-B8F7-20AD2143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44B7C-E0B9-47DB-A84B-16AA7A28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6180B-A75D-4110-ACB5-4DDA194E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A2311-2B43-4BF8-B22D-BA991D88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CFAB8-C4AA-454D-951C-431BA66E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4FDA9-5A6B-4D58-881E-A4BFAF6B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0C9C8-FA0B-49BA-9528-25C462A1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031CC-B1E5-4FEE-BE41-A84865A4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9DB5DB-46CA-4755-A691-4960CD46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F02E0F-3C90-4EB8-8255-9F079714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75B04-3D9E-4C7E-852C-418E0A51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112F-545A-4C51-84D8-3C882917DD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DC7B-CDCD-4053-A400-73CCA7E978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D17E-40C0-4351-B19C-BEF9829C20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AA6C-7197-440F-8DE3-7ABACB4093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2208-392B-4314-8C7D-44074E61F2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156D-E2CF-4BE5-8CAC-7CE2BF3FF2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8738-7492-451E-B2D3-2A3B3F7F41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A3C2-441D-460C-90A8-12F9D622C7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9762-E75C-4A7D-AFD8-5CCFA187EA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A1CC-8742-4258-9859-3AD0ADB911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9D6D-5A4E-4B95-AF91-2721788F91A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EA29-4522-4299-A997-3CFD61C4C6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143000" y="4571640"/>
            <a:ext cx="68580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ESA 5 MAP USER’S GROUP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PRING 200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380520" y="2743200"/>
            <a:ext cx="8458200" cy="18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6349"/>
                </a:solidFill>
                <a:latin typeface="Century Gothic"/>
              </a:rPr>
              <a:t>Unlocking Reports </a:t>
            </a:r>
            <a:br>
              <a:rPr sz="3600"/>
            </a:br>
            <a:r>
              <a:rPr b="0" lang="en-US" sz="2800" spc="-1" strike="noStrike">
                <a:solidFill>
                  <a:srgbClr val="d16349"/>
                </a:solidFill>
                <a:latin typeface="Century Gothic"/>
              </a:rPr>
              <a:t>to</a:t>
            </a:r>
            <a:r>
              <a:rPr b="0" lang="en-US" sz="3600" spc="-1" strike="noStrike">
                <a:solidFill>
                  <a:srgbClr val="d16349"/>
                </a:solidFill>
                <a:latin typeface="Century Gothic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d16349"/>
                </a:solidFill>
                <a:latin typeface="Century Gothic"/>
              </a:rPr>
              <a:t>Reach Your Goals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3" descr="NWEA (color) web.gif"/>
          <p:cNvPicPr/>
          <p:nvPr/>
        </p:nvPicPr>
        <p:blipFill>
          <a:blip r:embed="rId1"/>
          <a:stretch/>
        </p:blipFill>
        <p:spPr>
          <a:xfrm>
            <a:off x="3041640" y="395280"/>
            <a:ext cx="3086280" cy="1609560"/>
          </a:xfrm>
          <a:prstGeom prst="rect">
            <a:avLst/>
          </a:prstGeom>
          <a:ln w="0">
            <a:noFill/>
          </a:ln>
        </p:spPr>
      </p:pic>
      <p:sp>
        <p:nvSpPr>
          <p:cNvPr id="609" name="TextBox 4"/>
          <p:cNvSpPr/>
          <p:nvPr/>
        </p:nvSpPr>
        <p:spPr>
          <a:xfrm>
            <a:off x="2711160" y="5562720"/>
            <a:ext cx="37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Janet Wheel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artner Relations Representativ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eate focus-target an area of ne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0" name="Picture 2" descr="C:\Documents and Settings\andrew.bean\Desktop\slides\ir-1.jpg"/>
          <p:cNvPicPr/>
          <p:nvPr/>
        </p:nvPicPr>
        <p:blipFill>
          <a:blip r:embed="rId1"/>
          <a:stretch/>
        </p:blipFill>
        <p:spPr>
          <a:xfrm>
            <a:off x="1235160" y="1636560"/>
            <a:ext cx="665316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1713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corporat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2" name="Picture 4" descr=""/>
          <p:cNvPicPr/>
          <p:nvPr/>
        </p:nvPicPr>
        <p:blipFill>
          <a:blip r:embed="rId1"/>
          <a:stretch/>
        </p:blipFill>
        <p:spPr>
          <a:xfrm>
            <a:off x="650880" y="1628640"/>
            <a:ext cx="781524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corporat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4560" y="2285640"/>
            <a:ext cx="8504280" cy="24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et the needs of all stud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pitalize on the knowledge and experience of  your colleagu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ork as a te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5" name="Picture 6" descr="C:\Documents and Settings\janet.wheeler\Local Settings\Temporary Internet Files\Content.IE5\K7V2TS8C\MCj02304000000[1].wmf"/>
          <p:cNvPicPr/>
          <p:nvPr/>
        </p:nvPicPr>
        <p:blipFill>
          <a:blip r:embed="rId1"/>
          <a:stretch/>
        </p:blipFill>
        <p:spPr>
          <a:xfrm>
            <a:off x="3809880" y="3352680"/>
            <a:ext cx="149400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147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pply what you know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187200" y="1614600"/>
            <a:ext cx="8763120" cy="4938480"/>
          </a:xfrm>
          <a:prstGeom prst="rect">
            <a:avLst/>
          </a:prstGeom>
          <a:ln w="0">
            <a:noFill/>
          </a:ln>
        </p:spPr>
      </p:pic>
      <p:cxnSp>
        <p:nvCxnSpPr>
          <p:cNvPr id="658" name="Straight Arrow Connector 6"/>
          <p:cNvCxnSpPr/>
          <p:nvPr/>
        </p:nvCxnSpPr>
        <p:spPr>
          <a:xfrm>
            <a:off x="2590560" y="2849040"/>
            <a:ext cx="533880" cy="2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659" name="Straight Arrow Connector 7"/>
          <p:cNvCxnSpPr/>
          <p:nvPr/>
        </p:nvCxnSpPr>
        <p:spPr>
          <a:xfrm>
            <a:off x="2568600" y="3102120"/>
            <a:ext cx="534240" cy="21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660" name="Straight Arrow Connector 8"/>
          <p:cNvCxnSpPr/>
          <p:nvPr/>
        </p:nvCxnSpPr>
        <p:spPr>
          <a:xfrm>
            <a:off x="2514600" y="4114800"/>
            <a:ext cx="534240" cy="21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61" name="Oval 9"/>
          <p:cNvSpPr/>
          <p:nvPr/>
        </p:nvSpPr>
        <p:spPr>
          <a:xfrm>
            <a:off x="3276720" y="2209680"/>
            <a:ext cx="2590560" cy="53352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Study</a:t>
            </a:r>
            <a:r>
              <a:rPr b="0" lang="en-US" sz="3300" spc="-1" strike="noStrike">
                <a:solidFill>
                  <a:srgbClr val="88a1ad"/>
                </a:solidFill>
                <a:latin typeface="Georgia"/>
              </a:rPr>
              <a:t> – Assess Your Progr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4560" y="1828800"/>
            <a:ext cx="850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we have a shared visio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has using data provided opportunities for sharing with my colleague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I see evidence of student growth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we created a cycle of continuous improvement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Act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-Begin somewhere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4560" y="1904760"/>
            <a:ext cx="850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the data to chang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structional focus (targeted areas of concern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urriculu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structional strategies (flexible grouping, differentiated instruction, etc.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are with my colleagues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uccessful strategi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sources and material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lanning Tim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ersistence . . . not perfe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7" name="Content Placeholder 3" descr=""/>
          <p:cNvPicPr/>
          <p:nvPr/>
        </p:nvPicPr>
        <p:blipFill>
          <a:blip r:embed="rId1"/>
          <a:stretch/>
        </p:blipFill>
        <p:spPr>
          <a:xfrm>
            <a:off x="298440" y="1663560"/>
            <a:ext cx="851688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isdo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1320" y="1526760"/>
            <a:ext cx="850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egin challenging your own assumptions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Your assumptions are your windows on the world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crub them off every once in awhile, or the light won’t come in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lan Alda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0" name="Picture 4" descr="image027.jpg"/>
          <p:cNvPicPr/>
          <p:nvPr/>
        </p:nvPicPr>
        <p:blipFill>
          <a:blip r:embed="rId1"/>
          <a:srcRect l="0" t="12000" r="13434" b="0"/>
          <a:stretch/>
        </p:blipFill>
        <p:spPr>
          <a:xfrm>
            <a:off x="3122640" y="1697040"/>
            <a:ext cx="2886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 forth . . . . . . have fun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2" name="Why buy expensive toys.wmv" descr=""/>
          <p:cNvPicPr/>
          <p:nvPr/>
        </p:nvPicPr>
        <p:blipFill>
          <a:blip r:embed="rId1"/>
          <a:stretch/>
        </p:blipFill>
        <p:spPr>
          <a:xfrm>
            <a:off x="2678040" y="225756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673" name="TextBox 3"/>
          <p:cNvSpPr/>
          <p:nvPr/>
        </p:nvSpPr>
        <p:spPr>
          <a:xfrm>
            <a:off x="563400" y="5546880"/>
            <a:ext cx="8077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ANK YOU for all you do for kids!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80480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" dur="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ssessment should make a differen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pSp>
        <p:nvGrpSpPr>
          <p:cNvPr id="611" name="Flowchart: Extract 3"/>
          <p:cNvGrpSpPr/>
          <p:nvPr/>
        </p:nvGrpSpPr>
        <p:grpSpPr>
          <a:xfrm>
            <a:off x="2182680" y="1444680"/>
            <a:ext cx="4767480" cy="4809960"/>
            <a:chOff x="2182680" y="1444680"/>
            <a:chExt cx="4767480" cy="4809960"/>
          </a:xfrm>
        </p:grpSpPr>
        <p:pic>
          <p:nvPicPr>
            <p:cNvPr id="612" name="Flowchart: Extract 3" descr=""/>
            <p:cNvPicPr/>
            <p:nvPr/>
          </p:nvPicPr>
          <p:blipFill>
            <a:blip r:embed="rId1"/>
            <a:stretch/>
          </p:blipFill>
          <p:spPr>
            <a:xfrm>
              <a:off x="2182680" y="1444680"/>
              <a:ext cx="4767480" cy="48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3452760" y="3848040"/>
              <a:ext cx="2225880" cy="22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614" name="TextBox 17"/>
          <p:cNvSpPr/>
          <p:nvPr/>
        </p:nvSpPr>
        <p:spPr>
          <a:xfrm>
            <a:off x="3968640" y="253044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State Tes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TextBox 18"/>
          <p:cNvSpPr/>
          <p:nvPr/>
        </p:nvSpPr>
        <p:spPr>
          <a:xfrm>
            <a:off x="5411160" y="550548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NWE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TextBox 19"/>
          <p:cNvSpPr/>
          <p:nvPr/>
        </p:nvSpPr>
        <p:spPr>
          <a:xfrm>
            <a:off x="2713320" y="533412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lassroo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ssessmen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11" descr="C:\Documents and Settings\janet.wheeler\Local Settings\Temporary Internet Files\Content.IE5\DW0RP42Z\MPj04265620000[1].jpg"/>
          <p:cNvPicPr/>
          <p:nvPr/>
        </p:nvPicPr>
        <p:blipFill>
          <a:blip r:embed="rId2"/>
          <a:stretch/>
        </p:blipFill>
        <p:spPr>
          <a:xfrm>
            <a:off x="3730680" y="3352680"/>
            <a:ext cx="1676520" cy="182880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 have MAP data . . . now wha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2718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you create a shared visio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4560" y="1599840"/>
            <a:ext cx="8504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tools for improving instruction includ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aying the found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signing your approac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eating a culture of continuous improve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Diagram 3" descr=""/>
          <p:cNvPicPr/>
          <p:nvPr/>
        </p:nvPicPr>
        <p:blipFill>
          <a:blip r:embed="rId1"/>
          <a:stretch/>
        </p:blipFill>
        <p:spPr>
          <a:xfrm>
            <a:off x="2610000" y="3419640"/>
            <a:ext cx="4028760" cy="3193920"/>
          </a:xfrm>
          <a:prstGeom prst="rect">
            <a:avLst/>
          </a:prstGeom>
          <a:ln w="0">
            <a:noFill/>
          </a:ln>
        </p:spPr>
      </p:pic>
      <p:cxnSp>
        <p:nvCxnSpPr>
          <p:cNvPr id="623" name="Straight Arrow Connector 5"/>
          <p:cNvCxnSpPr/>
          <p:nvPr/>
        </p:nvCxnSpPr>
        <p:spPr>
          <a:xfrm flipH="1">
            <a:off x="4605120" y="4267080"/>
            <a:ext cx="2160" cy="1526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4" name="Straight Arrow Connector 8"/>
          <p:cNvCxnSpPr/>
          <p:nvPr/>
        </p:nvCxnSpPr>
        <p:spPr>
          <a:xfrm>
            <a:off x="3885840" y="5017680"/>
            <a:ext cx="1524600" cy="2520"/>
          </a:xfrm>
          <a:prstGeom prst="straightConnector1">
            <a:avLst/>
          </a:prstGeom>
          <a:ln w="28440">
            <a:solidFill>
              <a:srgbClr val="ffe947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5" name="Curved Connector 11"/>
          <p:cNvCxnSpPr/>
          <p:nvPr/>
        </p:nvCxnSpPr>
        <p:spPr>
          <a:xfrm flipV="1">
            <a:off x="4648320" y="3885480"/>
            <a:ext cx="1296000" cy="76284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6" name="TextBox 12"/>
          <p:cNvSpPr/>
          <p:nvPr/>
        </p:nvSpPr>
        <p:spPr>
          <a:xfrm>
            <a:off x="5946120" y="3708360"/>
            <a:ext cx="1701720" cy="307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Reflective Proces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627" name="Curved Connector 15"/>
          <p:cNvCxnSpPr/>
          <p:nvPr/>
        </p:nvCxnSpPr>
        <p:spPr>
          <a:xfrm flipV="1" rot="10800000">
            <a:off x="3276000" y="5105160"/>
            <a:ext cx="91512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28440">
            <a:solidFill>
              <a:srgbClr val="ffe947"/>
            </a:solidFill>
            <a:miter/>
            <a:tailEnd len="med" type="arrow" w="med"/>
          </a:ln>
        </p:spPr>
      </p:cxnSp>
      <p:sp>
        <p:nvSpPr>
          <p:cNvPr id="628" name="TextBox 17"/>
          <p:cNvSpPr/>
          <p:nvPr/>
        </p:nvSpPr>
        <p:spPr>
          <a:xfrm>
            <a:off x="1798560" y="5791320"/>
            <a:ext cx="1418040" cy="307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Action Proces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alk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6349"/>
                </a:solidFill>
                <a:latin typeface="Georgia"/>
              </a:rPr>
              <a:t>It Starts With Me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would you describe effective teachin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es your school or district have a shared understanding of what kind of teaching you need in your classroom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yes, write down the shared vis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not, should you?  When a school does not have a shared understanding of effective teaching, what is the consequence on student learnin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ere do you want to b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4560" y="2057040"/>
            <a:ext cx="8504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Big Goa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y did you choose MAP?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at do you hope to achiev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Smaller Goals-Measures of Succe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are you going to get ther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at will it look lik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will you know you are making progress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2" descr="C:\Documents and Settings\janet.wheeler\Local Settings\Temporary Internet Files\Content.IE5\NQFIH4KI\MPj04286140000[1].jpg"/>
          <p:cNvPicPr/>
          <p:nvPr/>
        </p:nvPicPr>
        <p:blipFill>
          <a:blip r:embed="rId1"/>
          <a:stretch/>
        </p:blipFill>
        <p:spPr>
          <a:xfrm>
            <a:off x="5334120" y="1676520"/>
            <a:ext cx="312408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Plan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- Begin with the end in mind . . 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Diagram 3" descr=""/>
          <p:cNvPicPr/>
          <p:nvPr/>
        </p:nvPicPr>
        <p:blipFill>
          <a:blip r:embed="rId1"/>
          <a:stretch/>
        </p:blipFill>
        <p:spPr>
          <a:xfrm>
            <a:off x="298440" y="1792440"/>
            <a:ext cx="8547120" cy="4657680"/>
          </a:xfrm>
          <a:prstGeom prst="rect">
            <a:avLst/>
          </a:prstGeom>
          <a:ln w="0">
            <a:noFill/>
          </a:ln>
        </p:spPr>
      </p:pic>
      <p:grpSp>
        <p:nvGrpSpPr>
          <p:cNvPr id="636" name="TextBox 4"/>
          <p:cNvGrpSpPr/>
          <p:nvPr/>
        </p:nvGrpSpPr>
        <p:grpSpPr>
          <a:xfrm>
            <a:off x="6428160" y="1779480"/>
            <a:ext cx="1826640" cy="609840"/>
            <a:chOff x="6428160" y="1779480"/>
            <a:chExt cx="1826640" cy="609840"/>
          </a:xfrm>
        </p:grpSpPr>
        <p:pic>
          <p:nvPicPr>
            <p:cNvPr id="637" name="TextBox 4" descr=""/>
            <p:cNvPicPr/>
            <p:nvPr/>
          </p:nvPicPr>
          <p:blipFill>
            <a:blip r:embed="rId2"/>
            <a:stretch/>
          </p:blipFill>
          <p:spPr>
            <a:xfrm>
              <a:off x="6450120" y="1779480"/>
              <a:ext cx="17794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6428160" y="1784520"/>
              <a:ext cx="18266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7b9899"/>
                  </a:solidFill>
                  <a:latin typeface="Georgia"/>
                </a:rPr>
                <a:t>The End</a:t>
              </a:r>
              <a:endParaRPr b="0" lang="en-US" sz="33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639" name="Straight Arrow Connector 6" descr=""/>
          <p:cNvPicPr/>
          <p:nvPr/>
        </p:nvPicPr>
        <p:blipFill>
          <a:blip r:embed="rId3"/>
          <a:stretch/>
        </p:blipFill>
        <p:spPr>
          <a:xfrm>
            <a:off x="1504800" y="1852560"/>
            <a:ext cx="4883400" cy="641520"/>
          </a:xfrm>
          <a:prstGeom prst="rect">
            <a:avLst/>
          </a:prstGeom>
          <a:ln w="0">
            <a:noFill/>
          </a:ln>
        </p:spPr>
      </p:pic>
      <p:sp>
        <p:nvSpPr>
          <p:cNvPr id="640" name="TextBox 12"/>
          <p:cNvSpPr/>
          <p:nvPr/>
        </p:nvSpPr>
        <p:spPr>
          <a:xfrm>
            <a:off x="3210480" y="16765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d7a"/>
                </a:solidFill>
                <a:latin typeface="Georgia"/>
              </a:rPr>
              <a:t>Plan backward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ake meaning of the dat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96080" cy="5052960"/>
          </a:xfrm>
          <a:prstGeom prst="rect">
            <a:avLst/>
          </a:prstGeom>
          <a:ln w="0">
            <a:noFill/>
          </a:ln>
        </p:spPr>
      </p:pic>
      <p:sp>
        <p:nvSpPr>
          <p:cNvPr id="643" name="Right Arrow 4"/>
          <p:cNvSpPr/>
          <p:nvPr/>
        </p:nvSpPr>
        <p:spPr>
          <a:xfrm>
            <a:off x="2286000" y="6324480"/>
            <a:ext cx="533520" cy="255600"/>
          </a:xfrm>
          <a:prstGeom prst="rightArrow">
            <a:avLst>
              <a:gd name="adj1" fmla="val 50000"/>
              <a:gd name="adj2" fmla="val 5009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Oval 5"/>
          <p:cNvSpPr/>
          <p:nvPr/>
        </p:nvSpPr>
        <p:spPr>
          <a:xfrm>
            <a:off x="5575320" y="6311880"/>
            <a:ext cx="533520" cy="22860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Straight Connector 7"/>
          <p:cNvSpPr/>
          <p:nvPr/>
        </p:nvSpPr>
        <p:spPr>
          <a:xfrm flipV="1">
            <a:off x="6477120" y="6248160"/>
            <a:ext cx="457200" cy="7596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TextBox 8"/>
          <p:cNvSpPr/>
          <p:nvPr/>
        </p:nvSpPr>
        <p:spPr>
          <a:xfrm>
            <a:off x="6466320" y="59673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95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Do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- Design your approa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8" name="Picture 2" descr="C:\Documents and Settings\andrew.bean\Desktop\slides\ir-0.jpg"/>
          <p:cNvPicPr/>
          <p:nvPr/>
        </p:nvPicPr>
        <p:blipFill>
          <a:blip r:embed="rId1"/>
          <a:stretch/>
        </p:blipFill>
        <p:spPr>
          <a:xfrm>
            <a:off x="1203480" y="1652760"/>
            <a:ext cx="67370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7:28:19Z</dcterms:created>
  <dc:creator>janet.wheeler</dc:creator>
  <dc:description/>
  <dc:language>en-US</dc:language>
  <cp:lastModifiedBy>CESA5</cp:lastModifiedBy>
  <dcterms:modified xsi:type="dcterms:W3CDTF">2008-04-10T15:13:29Z</dcterms:modified>
  <cp:revision>103</cp:revision>
  <dc:subject/>
  <dc:title>Unlocking Reports</dc:title>
</cp:coreProperties>
</file>