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3B54-B8EF-4530-8C1D-8CD9538C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C57-F8B9-4C52-AE6A-D2F7A29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873AD-7CE6-4B6D-A4B3-EB37CBDA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CB030-598A-4D74-9CAA-C8EB7F3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44101-8785-4CB9-B334-AAA48513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1BE68E-1966-4408-8A78-300AD4F9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183B3-A88E-44C0-A5A4-99B7C5E5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65321-67CC-4C15-B7BD-A57646D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E0C934-666D-44F8-A51A-51D5DE15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5B100C-D91E-4961-89D8-058A3FCF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579B5C-AE0D-42D3-A442-488022F6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7290D1-FFD6-4D68-A568-EC5F0B58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AA9-ED2F-4BF6-BA86-0F865CD5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5C741-A3E7-47A0-8642-63E10816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FE920F-C369-4B33-9455-E80D2312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E58A4-2E8A-4887-B046-DA1D8464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E9A8F-4621-472B-A2E3-3BDA13F3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B2CA0-E41C-4B6B-BCB0-2BC061DD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3238A6-EC79-448F-B98C-A8381081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BF2F5F-8F4F-4C97-937B-44BD716A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F2326-6B76-449D-88A8-A9D61D9D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213C5-8E96-4567-8284-F667723B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B710BE-EE20-415F-8A1D-8D5B8C19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834-9425-49CF-B219-F4C924E4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65981-5829-4EF2-A4E7-7B29F55E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3B0A7-3C46-4E97-9209-7AE9AEFF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A9D91-CA37-415C-ABCF-C7B4A817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A8875-B3E4-4E2E-9670-9FB9BA0C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1A9C7-F310-400C-AB55-F760EBA6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B6D1D-2B40-4E79-8404-414B8A06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66B08-31A7-4498-91C4-FE61DC93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05AD5-60C9-4004-8563-801C7587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3FC03-EA98-4FED-A560-32BC429D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7A675-3F06-46C2-9B1C-FD3EFA18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48B2-13EF-4573-8335-59185057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140DB-F48F-4011-B5B4-7A1EC429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DC3C7-5268-43E1-BE5E-66FB51D8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B32E9-1AC1-4EDE-BB5D-F264D563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3B43D1-2C83-4818-8F0B-098BA72E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0E65F-2365-4237-BD6D-D5B98CBE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B69318-B396-4000-8D0C-A7B9F3E3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EDC89-8727-4671-B794-2872DF6B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BDB6A-A074-4411-AB3E-EB75B2A5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BD9AC-D8EC-4189-BBA8-D08200F7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1CB25-2774-4576-88CE-5870A00E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63CE-09CC-41EA-A8A2-51D310FB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FFFA27-AEBA-4D21-BD0F-FCBF566B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FE1431-9646-4C76-A18B-91C0942D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A6CF2-CD54-408D-B43B-3A118415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83ED5E-6395-42D0-9268-B0723559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B5091-6603-4DDB-A1C4-48BE0CB9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0224-5219-4675-A36C-873CB423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49BD-28DD-4308-9AA9-E00BDC5B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C547-F8C5-496D-82C1-9C29176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025F-9558-4C45-988B-DD4A355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D681-CF30-4F30-B223-C72ADBC7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CF0-2FD1-474F-8DCC-A45E3476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6592-2C12-4C6B-8FBF-57848A56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CA02-B13E-4799-8DA9-ECF835C2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1250-7E34-45E7-9DF1-06637BA6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90C9-61F0-46BB-8CFA-F44C5A9C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BB9F-2821-4081-BD90-AC0E45C4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8073-508F-4C13-BA95-422A58D3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64FE5-571B-4F8B-8B31-B372D05C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0E24C-BAD6-448C-A5A3-075720A4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84A93-2B3D-4799-B0C9-E0801E43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962A-407D-4BE8-914D-F6F37DFC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E05-1185-4B53-BB66-2C0A1310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3AF5F-392B-47A4-852D-9CAC92EB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BFBA3-4211-43BA-A98C-946A0810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24205-8C4C-4D0E-AD40-15AF50F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DEFC-42F9-423C-8EE3-3F424B6A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EE0B-D6AB-4747-9132-5AB0A7B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05AF-B193-464B-8386-842C2935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1690-25FC-431C-8A65-A3F5E55A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FD746-B48F-4DA1-B2D9-6A275CA6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D2400-A556-49B5-974B-11CC3E96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A58C3-3015-45EE-8DC5-AC9B1D22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C01-512A-478B-9729-033933A8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96A2-3A47-4854-BDA7-2553EE3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AE7E-07BB-43D2-B211-B02EEB5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AED49-F61B-4F5B-8218-28BF16D8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7867D-D666-41BF-9171-BEE98491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80BCC-4F2A-4F32-A715-0268D81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7893-AB76-4685-BFD1-60E53472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FE185-7ADB-4B53-BB92-87C62153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5EA06-CB32-47E5-B81E-A7D09E39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0CDB3-574F-414C-912F-F5851CDC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2C369-3FE2-462A-982C-7D22276D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FB9-AA4C-4577-9DEA-0C678B98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5665-05D6-4FB8-A5D9-AAA03A47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E1B79-3F4A-49DC-9185-F9FBC33F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5482-A1F3-4698-B27E-22CEFC4A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2ADD-8121-44D8-BBEC-3F755C25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88F1B-E055-4FAF-88FF-670104E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2E6CF-081F-4EA9-BDA5-3AED5DDE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C59E5-7076-4AC0-8618-8874CBE7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6392B-C6EE-41EE-A7D2-76BF91CF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42A91-7B66-4DF7-AA7B-93A192E5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D041-6A02-484D-87B2-66AABDF5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E01-A584-4D90-9EF7-44AD7089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2F5B9-6189-4E5E-AC46-9CFEB26A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95157-05DE-44E7-9CEE-FE22A13A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09B4-53D7-427E-BAE5-6A13EC7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66298-593B-41B9-9ED7-647D03C3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7FF89-8D38-4D05-8259-59E8851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0E9B6-2D52-472C-8F5A-284DC542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151E-961C-43BE-ACA6-333642B5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267F6-358C-4644-A061-81A507D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4E90E-51E7-4AB0-8FBA-FBC4F54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6C79D-BB74-4D9B-96AD-9C58E35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4C5-E8D6-495B-BE71-EEF4E4B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978E-2C9B-488B-BBE8-4DF3EEF6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6CE4-F817-49C7-BDFA-49A08EA6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438D3-9D7F-42B0-80FA-5EB765D1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2F7B3-1D4E-42F8-AAB1-63226734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7CFCE-8790-4191-A45A-B5529CBD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604BA-4FE6-4D91-99C3-565283E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1BCE9-24E6-42C4-9756-373A1DFC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5B77C-16A6-4823-9362-9F9F59A8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1D899-9E2C-49A8-ACCB-7F64D685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02AF-7267-4AD0-82C8-C995CDD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851-6F50-461F-B34D-CF8A0F8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0FBD-1857-4CC2-BC99-AF3970A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9F9A2-9A5A-4029-B32C-99F4F6A4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3E14A-BBE7-4428-B22D-59282A5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3ED85-6EFE-493C-8F7E-C15C8DED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70FCB-84CF-4159-B807-2085393D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69616-BB28-4A12-B798-5670FAFD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688C0-EE09-4739-9BDE-9EB35C84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61B9B-F6B5-42EA-892D-B6669116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F894-1C0C-404C-838C-7105443D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C6BCC-AE42-4335-992D-3658C0F8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468-0FEF-4972-867A-FBEFAF9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FBD3-85FC-4ACD-9CB3-85B0E09D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C73E-75AA-4E52-B631-8F1CE97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40E30-30B3-49BB-8947-EC00C56B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0DFE-7359-482F-9037-6DBDD3AB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54736-6154-4923-A894-1E0C7AF5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C425C-46F2-4620-8C12-ED66848C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192A6-EE09-4512-9688-E40A9C5E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0849F-1F64-4CCE-B75E-3C90E43E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72626-114D-40FE-94D1-83E0C64A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B67D34-5C11-45B1-A8A9-E429617D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22F4-672C-4870-8D5B-EA5BED1391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F0C7-2EAE-40A9-8122-68303C746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A8A8-0B9F-4282-A334-0A0D3709E4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8D37-0079-4C13-8693-660FAC01C2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E0BB-4784-4F56-A021-C82DDF16A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D020-0A27-419A-BEFE-95C9EDEBD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686-7707-4B7E-8AAD-5A3EF20695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736D-0757-4B75-9D25-385788F62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66E8-77BE-4F3F-B73F-502B1D5583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DD07-D0B0-42A1-A95B-7027D6B569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3A47-244B-4A94-BCE4-0A9E2B478C0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0B9-DA44-48D8-BC80-0F444440E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ESA 5 MAP USER’S GROU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80520" y="2743200"/>
            <a:ext cx="84582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Century Gothic"/>
              </a:rPr>
              <a:t>Unlocking Reports </a:t>
            </a:r>
            <a:br>
              <a:rPr sz="3600"/>
            </a:br>
            <a:r>
              <a:rPr b="0" lang="en-US" sz="2800" spc="-1" strike="noStrike">
                <a:solidFill>
                  <a:srgbClr val="d16349"/>
                </a:solidFill>
                <a:latin typeface="Century Gothic"/>
              </a:rPr>
              <a:t>to</a:t>
            </a: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Reach Your Goals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NWEA (color) web.gif"/>
          <p:cNvPicPr/>
          <p:nvPr/>
        </p:nvPicPr>
        <p:blipFill>
          <a:blip r:embed="rId1"/>
          <a:stretch/>
        </p:blipFill>
        <p:spPr>
          <a:xfrm>
            <a:off x="3041640" y="395280"/>
            <a:ext cx="3086280" cy="16095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2711160" y="55627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Janet Whee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tner Relations Representat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eate focus-target an area of ne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2" descr="C:\Documents and Settings\andrew.bean\Desktop\slides\ir-1.jpg"/>
          <p:cNvPicPr/>
          <p:nvPr/>
        </p:nvPicPr>
        <p:blipFill>
          <a:blip r:embed="rId1"/>
          <a:stretch/>
        </p:blipFill>
        <p:spPr>
          <a:xfrm>
            <a:off x="1235160" y="1636560"/>
            <a:ext cx="6653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171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650880" y="1628640"/>
            <a:ext cx="78152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560" y="2285640"/>
            <a:ext cx="850428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et the needs of all stu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pitalize on the knowledge and experience of  your colleag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as a t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6" descr="C:\Documents and Settings\janet.wheeler\Local Settings\Temporary Internet Files\Content.IE5\K7V2TS8C\MCj02304000000[1].wmf"/>
          <p:cNvPicPr/>
          <p:nvPr/>
        </p:nvPicPr>
        <p:blipFill>
          <a:blip r:embed="rId1"/>
          <a:stretch/>
        </p:blipFill>
        <p:spPr>
          <a:xfrm>
            <a:off x="3809880" y="3352680"/>
            <a:ext cx="1494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147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ly what you kn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187200" y="1614600"/>
            <a:ext cx="8763120" cy="4938480"/>
          </a:xfrm>
          <a:prstGeom prst="rect">
            <a:avLst/>
          </a:prstGeom>
          <a:ln w="0">
            <a:noFill/>
          </a:ln>
        </p:spPr>
      </p:pic>
      <p:cxnSp>
        <p:nvCxnSpPr>
          <p:cNvPr id="658" name="Straight Arrow Connector 6"/>
          <p:cNvCxnSpPr/>
          <p:nvPr/>
        </p:nvCxnSpPr>
        <p:spPr>
          <a:xfrm>
            <a:off x="2590560" y="2849040"/>
            <a:ext cx="533880" cy="2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59" name="Straight Arrow Connector 7"/>
          <p:cNvCxnSpPr/>
          <p:nvPr/>
        </p:nvCxnSpPr>
        <p:spPr>
          <a:xfrm>
            <a:off x="2568600" y="310212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60" name="Straight Arrow Connector 8"/>
          <p:cNvCxnSpPr/>
          <p:nvPr/>
        </p:nvCxnSpPr>
        <p:spPr>
          <a:xfrm>
            <a:off x="2514600" y="411480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61" name="Oval 9"/>
          <p:cNvSpPr/>
          <p:nvPr/>
        </p:nvSpPr>
        <p:spPr>
          <a:xfrm>
            <a:off x="3276720" y="2209680"/>
            <a:ext cx="2590560" cy="53352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Study</a:t>
            </a:r>
            <a:r>
              <a:rPr b="0" lang="en-US" sz="3300" spc="-1" strike="noStrike">
                <a:solidFill>
                  <a:srgbClr val="88a1ad"/>
                </a:solidFill>
                <a:latin typeface="Georgia"/>
              </a:rPr>
              <a:t> – Assess Your Progr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560" y="1828800"/>
            <a:ext cx="850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we have a shared vi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has using data provided opportunities for sharing with my colleagu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I see evidence of student growth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we created a cycle of continuous improvemen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Ac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-Begin somewhere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904760"/>
            <a:ext cx="850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the data to chang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focus (targeted areas of concer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strategies (flexible grouping, differentiated instruction, etc.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my colleagues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ccessful strateg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ources and materi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lanning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sistence . . . not perf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"/>
          <p:cNvPicPr/>
          <p:nvPr/>
        </p:nvPicPr>
        <p:blipFill>
          <a:blip r:embed="rId1"/>
          <a:stretch/>
        </p:blipFill>
        <p:spPr>
          <a:xfrm>
            <a:off x="298440" y="1663560"/>
            <a:ext cx="85168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isdo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gin challenging your own assumption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Your assumptions are your windows on the world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crub them off every once in awhile, or the light won’t come i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an Ald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4" descr="image027.jpg"/>
          <p:cNvPicPr/>
          <p:nvPr/>
        </p:nvPicPr>
        <p:blipFill>
          <a:blip r:embed="rId1"/>
          <a:srcRect l="0" t="12000" r="13434" b="0"/>
          <a:stretch/>
        </p:blipFill>
        <p:spPr>
          <a:xfrm>
            <a:off x="3122640" y="1697040"/>
            <a:ext cx="2886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 forth . . . . . . have fun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2" name="Why buy expensive toys.wmv" descr=""/>
          <p:cNvPicPr/>
          <p:nvPr/>
        </p:nvPicPr>
        <p:blipFill>
          <a:blip r:embed="rId1"/>
          <a:stretch/>
        </p:blipFill>
        <p:spPr>
          <a:xfrm>
            <a:off x="2678040" y="225756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"/>
          <p:cNvSpPr/>
          <p:nvPr/>
        </p:nvSpPr>
        <p:spPr>
          <a:xfrm>
            <a:off x="563400" y="5546880"/>
            <a:ext cx="807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all you do for kids!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48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essment should make a dif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1" name="Flowchart: Extract 3"/>
          <p:cNvGrpSpPr/>
          <p:nvPr/>
        </p:nvGrpSpPr>
        <p:grpSpPr>
          <a:xfrm>
            <a:off x="2182680" y="1444680"/>
            <a:ext cx="4767480" cy="4809960"/>
            <a:chOff x="2182680" y="1444680"/>
            <a:chExt cx="4767480" cy="4809960"/>
          </a:xfrm>
        </p:grpSpPr>
        <p:pic>
          <p:nvPicPr>
            <p:cNvPr id="612" name="Flowchart: Extract 3" descr=""/>
            <p:cNvPicPr/>
            <p:nvPr/>
          </p:nvPicPr>
          <p:blipFill>
            <a:blip r:embed="rId1"/>
            <a:stretch/>
          </p:blipFill>
          <p:spPr>
            <a:xfrm>
              <a:off x="2182680" y="1444680"/>
              <a:ext cx="476748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452760" y="3848040"/>
              <a:ext cx="2225880" cy="22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4" name="TextBox 17"/>
          <p:cNvSpPr/>
          <p:nvPr/>
        </p:nvSpPr>
        <p:spPr>
          <a:xfrm>
            <a:off x="3968640" y="25304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tate Te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5411160" y="55054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W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2713320" y="53341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essm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1" descr="C:\Documents and Settings\janet.wheeler\Local Settings\Temporary Internet Files\Content.IE5\DW0RP42Z\MPj04265620000[1].jpg"/>
          <p:cNvPicPr/>
          <p:nvPr/>
        </p:nvPicPr>
        <p:blipFill>
          <a:blip r:embed="rId2"/>
          <a:stretch/>
        </p:blipFill>
        <p:spPr>
          <a:xfrm>
            <a:off x="3730680" y="3352680"/>
            <a:ext cx="1676520" cy="1828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have MAP data . . . now wha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71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create a shared vis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99840"/>
            <a:ext cx="8504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ools for improving instruction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ying the found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ing your approa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a culture of continuous impr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Diagram 3" descr=""/>
          <p:cNvPicPr/>
          <p:nvPr/>
        </p:nvPicPr>
        <p:blipFill>
          <a:blip r:embed="rId1"/>
          <a:stretch/>
        </p:blipFill>
        <p:spPr>
          <a:xfrm>
            <a:off x="2610000" y="3419640"/>
            <a:ext cx="4028760" cy="319392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5"/>
          <p:cNvCxnSpPr/>
          <p:nvPr/>
        </p:nvCxnSpPr>
        <p:spPr>
          <a:xfrm flipH="1">
            <a:off x="4605120" y="4267080"/>
            <a:ext cx="2160" cy="152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4" name="Straight Arrow Connector 8"/>
          <p:cNvCxnSpPr/>
          <p:nvPr/>
        </p:nvCxnSpPr>
        <p:spPr>
          <a:xfrm>
            <a:off x="3885840" y="5017680"/>
            <a:ext cx="1524600" cy="2520"/>
          </a:xfrm>
          <a:prstGeom prst="straightConnector1">
            <a:avLst/>
          </a:prstGeom>
          <a:ln w="28440">
            <a:solidFill>
              <a:srgbClr val="ffe94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5" name="Curved Connector 11"/>
          <p:cNvCxnSpPr/>
          <p:nvPr/>
        </p:nvCxnSpPr>
        <p:spPr>
          <a:xfrm flipV="1">
            <a:off x="4648320" y="3885480"/>
            <a:ext cx="1296000" cy="7628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5946120" y="3708360"/>
            <a:ext cx="170172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Reflective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7" name="Curved Connector 15"/>
          <p:cNvCxnSpPr/>
          <p:nvPr/>
        </p:nvCxnSpPr>
        <p:spPr>
          <a:xfrm flipV="1" rot="10800000">
            <a:off x="3276000" y="510516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28440">
            <a:solidFill>
              <a:srgbClr val="ffe947"/>
            </a:solidFill>
            <a:miter/>
            <a:tailEnd len="med" type="arrow" w="med"/>
          </a:ln>
        </p:spPr>
      </p:cxnSp>
      <p:sp>
        <p:nvSpPr>
          <p:cNvPr id="628" name="TextBox 17"/>
          <p:cNvSpPr/>
          <p:nvPr/>
        </p:nvSpPr>
        <p:spPr>
          <a:xfrm>
            <a:off x="1798560" y="5791320"/>
            <a:ext cx="141804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ction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lk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t Starts With M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would you describe effective teach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your school or district have a shared understanding of what kind of teaching you need in your classroom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yes, write down the shared vi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t, should you?  When a school does not have a shared understanding of effective teaching, what is the consequence on student lear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o you want to b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560" y="2057040"/>
            <a:ext cx="8504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Big Go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y did you choose MAP?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do you hope to achie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maller Goals-Measures of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are you going to get the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ill it look lik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will you know you are making progres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C:\Documents and Settings\janet.wheeler\Local Settings\Temporary Internet Files\Content.IE5\NQFIH4KI\MPj04286140000[1].jpg"/>
          <p:cNvPicPr/>
          <p:nvPr/>
        </p:nvPicPr>
        <p:blipFill>
          <a:blip r:embed="rId1"/>
          <a:stretch/>
        </p:blipFill>
        <p:spPr>
          <a:xfrm>
            <a:off x="5334120" y="1676520"/>
            <a:ext cx="31240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Pla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Begin with the end in mind . . 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Diagram 3" descr=""/>
          <p:cNvPicPr/>
          <p:nvPr/>
        </p:nvPicPr>
        <p:blipFill>
          <a:blip r:embed="rId1"/>
          <a:stretch/>
        </p:blipFill>
        <p:spPr>
          <a:xfrm>
            <a:off x="298440" y="1792440"/>
            <a:ext cx="8547120" cy="4657680"/>
          </a:xfrm>
          <a:prstGeom prst="rect">
            <a:avLst/>
          </a:prstGeom>
          <a:ln w="0">
            <a:noFill/>
          </a:ln>
        </p:spPr>
      </p:pic>
      <p:grpSp>
        <p:nvGrpSpPr>
          <p:cNvPr id="636" name="TextBox 4"/>
          <p:cNvGrpSpPr/>
          <p:nvPr/>
        </p:nvGrpSpPr>
        <p:grpSpPr>
          <a:xfrm>
            <a:off x="6428160" y="1779480"/>
            <a:ext cx="1826640" cy="609840"/>
            <a:chOff x="6428160" y="1779480"/>
            <a:chExt cx="1826640" cy="609840"/>
          </a:xfrm>
        </p:grpSpPr>
        <p:pic>
          <p:nvPicPr>
            <p:cNvPr id="637" name="TextBox 4" descr=""/>
            <p:cNvPicPr/>
            <p:nvPr/>
          </p:nvPicPr>
          <p:blipFill>
            <a:blip r:embed="rId2"/>
            <a:stretch/>
          </p:blipFill>
          <p:spPr>
            <a:xfrm>
              <a:off x="6450120" y="1779480"/>
              <a:ext cx="177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28160" y="1784520"/>
              <a:ext cx="1826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7b9899"/>
                  </a:solidFill>
                  <a:latin typeface="Georgia"/>
                </a:rPr>
                <a:t>The End</a:t>
              </a:r>
              <a:endParaRPr b="0" lang="en-US" sz="33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39" name="Straight Arrow Connector 6" descr=""/>
          <p:cNvPicPr/>
          <p:nvPr/>
        </p:nvPicPr>
        <p:blipFill>
          <a:blip r:embed="rId3"/>
          <a:stretch/>
        </p:blipFill>
        <p:spPr>
          <a:xfrm>
            <a:off x="1504800" y="1852560"/>
            <a:ext cx="4883400" cy="6415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3210480" y="16765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d7a"/>
                </a:solidFill>
                <a:latin typeface="Georgia"/>
              </a:rPr>
              <a:t>Plan backwar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ke meaning of the da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052960"/>
          </a:xfrm>
          <a:prstGeom prst="rect">
            <a:avLst/>
          </a:prstGeom>
          <a:ln w="0">
            <a:noFill/>
          </a:ln>
        </p:spPr>
      </p:pic>
      <p:sp>
        <p:nvSpPr>
          <p:cNvPr id="643" name="Right Arrow 4"/>
          <p:cNvSpPr/>
          <p:nvPr/>
        </p:nvSpPr>
        <p:spPr>
          <a:xfrm>
            <a:off x="2286000" y="6324480"/>
            <a:ext cx="533520" cy="25560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5575320" y="6311880"/>
            <a:ext cx="533520" cy="22860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Straight Connector 7"/>
          <p:cNvSpPr/>
          <p:nvPr/>
        </p:nvSpPr>
        <p:spPr>
          <a:xfrm flipV="1">
            <a:off x="6477120" y="6248160"/>
            <a:ext cx="457200" cy="759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6466320" y="5967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Do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Design your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8" name="Picture 2" descr="C:\Documents and Settings\andrew.bean\Desktop\slides\ir-0.jpg"/>
          <p:cNvPicPr/>
          <p:nvPr/>
        </p:nvPicPr>
        <p:blipFill>
          <a:blip r:embed="rId1"/>
          <a:stretch/>
        </p:blipFill>
        <p:spPr>
          <a:xfrm>
            <a:off x="1203480" y="1652760"/>
            <a:ext cx="6737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28:19Z</dcterms:created>
  <dc:creator>janet.wheeler</dc:creator>
  <dc:description/>
  <dc:language>en-US</dc:language>
  <cp:lastModifiedBy>CESA5</cp:lastModifiedBy>
  <dcterms:modified xsi:type="dcterms:W3CDTF">2008-04-10T15:13:29Z</dcterms:modified>
  <cp:revision>103</cp:revision>
  <dc:subject/>
  <dc:title>Unlocking Reports</dc:title>
</cp:coreProperties>
</file>