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D14-36E7-49F0-8B13-C442AF6F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A6F-B4C9-41F1-A579-ADC2D8C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3DC1D-B25A-4FF0-A372-8DBB2D8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27B5F-5886-46F2-B6C3-7F8EC353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DE955-41F8-4FAF-A23F-FB56FA5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049EB-F7B3-4991-8CF9-18FE57F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E00ED-7348-411F-BECD-06193B22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5EAAC-7002-457B-8F8B-40C03CF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DA196-21BF-4356-A796-5A18D99A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41948-BF1D-4B33-B54B-E3167288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C5584-0D7F-4E16-BBF0-32D93B86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B19E3-15CA-4A44-810E-B1A67765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6E8-094A-41C6-9F48-DB941EF7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DE90F-4025-41D5-AF3E-6F037A5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033B0-C9EB-4CE0-9FF0-A8ED53EC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BEE55-D7A7-4B18-9B04-E5C11D32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B7652-5CAD-4EA7-B7EF-CFB6508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1AB30-0AFB-446D-9538-3CEFA071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4F184-39FC-4B62-9A83-978B33D3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692A1-863D-4B0D-8254-20857C9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4ED1A-2C84-4200-9DB4-E19DFC8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E5666-5AF6-45FC-8602-82E1D3F8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01692-9DAA-43FF-AE3A-B785EF95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E7E-449D-467E-B7B4-646FF260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EA23C-646D-425B-AC90-56F447E1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D2C1F-BBB6-4B83-A8A3-10BA9883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7675F-6B26-4129-AAF5-26516A45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C182B-3C91-45C1-B4E0-AA662F8B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AE0E9-AF0D-432A-89CF-6E6428B4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60D42-D426-4CAC-BD27-9849FA4E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3390C-2871-4296-A5F9-D35B9CD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26A11-4B50-41EF-BDA3-95E31A9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6F19-5312-4A1D-B06F-871227C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5E6A8-3236-480A-A972-EE0262C8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53C-A9EE-46D5-9624-9E06A6A9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CB68C-A5DC-4B78-BB9E-A50F986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D17CB-1D95-424D-A46A-BC198CC4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B4BF6-B1FE-4C77-9036-B68297DB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24CFC-D8F0-4C3F-AD1A-932DBD78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AF9A6-B0C3-469A-82FD-02AC1F53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0FF9A-C4AB-4455-AD51-08D35DF6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E428E-BDFA-435C-B7AA-060F4C4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78593-3909-4356-92EB-80681892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654D2-DE6B-4FDA-B922-8B487B66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4FE87-B8F3-4DDC-B2E7-0217572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2141-8EAE-4AA6-8A07-96B4FDD5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F2A7F-FC3B-453E-9B58-D35CA022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6850D-FFAC-4A9A-91C3-A7F2821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A5ED9-F75A-4330-B371-CF47C7CD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14DC3-49ED-4F55-A069-E319364E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074DC-418E-49BD-A191-C444DCD9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483-FE65-428C-8435-E7A3127F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58D-7BB5-4896-B20B-A69A58B6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22FB-2B00-44E3-9FE9-2B0DDCB6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5FF8-739C-4E9A-80D5-41C2A51C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8C34-0B27-4CA1-9E61-F3276C8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5B7-0CA8-4F41-9C2E-B86B2F1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940-A2FB-4659-9CC8-05C4F83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BC8-D36F-4B11-81A0-54476CC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A1BC-ABA8-4725-AB27-C0377E45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212-2E51-4F67-9DF7-E0EEE5FA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15BA-146F-4113-A024-F1CC31BB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12EE-34C9-4D73-85A7-91F29B95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6C43-48FC-46A7-AA9D-32E52A55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7BFC-98A4-4D93-8BD9-8F7F660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EA46-B67F-4D2D-863E-C41868A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21B3-EC49-4369-9D51-B6D7B0A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508-9FE2-45BA-9127-39B1A2F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5448-CDD5-48D2-AD5E-F2EAAB3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DAB2-D899-4E21-B388-E38D4BF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A958-24C4-43CB-A3F4-A7AEDF1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2737-33CB-4C0C-BBE4-B0DFB17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E19D-94E5-4BF4-9E4F-3A93EE55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ECF2-3EFF-4135-9A84-D7D3D51C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6784-C0AF-4EBD-AA2D-DA9D6623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1DC0-E38F-4151-9A7C-1A760E46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9DA0-BB95-4F6C-8BBC-3B93FDED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B960-B91C-419C-8174-045665F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921-F869-4078-B305-B90747DA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AE6E-FD6A-45EC-ADCE-62E0F92B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F839-F8FF-4CB9-9492-55E76FF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BF86-EB60-4710-A0D9-A7EC94E1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0CC9-96AF-447F-A885-20B2D1C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4BE2-03ED-4F23-A9B6-1B6E649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0FC5-D939-4A6C-AC27-57D6A67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19B4-54DA-4B94-822A-9E6E21BB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0B02-E477-4005-9654-57E69645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2285-2F62-43EA-B2F0-80DCA594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F72E-602F-475D-BC34-B607334F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CA5-CE32-41AE-9170-2DB3807A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A6D7-B941-4B1D-9183-0430B562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709EF-E70B-4209-99BA-E5ACA55A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822A-34EA-4187-9D84-052522A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B3E8-42F0-4E03-8D4C-F3FBDEF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9760-7FBA-4AC1-B0A5-426A6065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7C7A-9BF9-44A4-8C75-14DD338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30C4-1233-4D95-B6A9-A6E6522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6124-B2F8-4E66-9319-B358154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B8DE4-0723-47E5-BB58-076309A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34E3-CA40-48DE-B086-F2F5839A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552-DCF0-4914-A271-1544D95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828C-C3BD-43AB-8F71-D6B9BCFC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B2B3-98DF-441C-A5C0-1AF27EAE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7790-C669-467C-9467-B872108D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FD63-3932-4F1A-9377-0B4AB55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42E5-F8AC-4658-BBE2-F1C52D9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2CD7-8B70-4348-AA33-D66C6336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07EC7-1AAB-466A-B0AA-4B440252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7DFE-B3E7-486E-BFB1-0B8C8F5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32D7-6CBF-40D7-908F-C12011E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0FA12-BB7B-4EEF-8C66-3E01EE3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B73-9F76-4442-A4FE-5808879A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E229-33E5-4E97-AA6E-95F72F58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6F1A-DD9F-4450-B581-EC9A65AE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F013-5623-4E3F-A3E4-4A25E53F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008D6-8EA3-469F-A593-F61AB5C4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2A05-42CA-47B8-A794-4EE8F421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E70F1-7D77-4481-B289-51BA255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5BAFB-3C34-4CD7-9A94-79780B9B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5575-8E0E-4A87-B9CF-3509534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4C94D-25B4-48B1-A191-07A4F40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61E6-84A1-4648-A07C-A0FE7F4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F2C-7C74-4693-9F00-4B68B40B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CB95-04C8-47C5-9714-120EAB7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4C1B-5D1C-4AB5-BBC6-4BC55412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AF09-A547-4EEF-B69F-97E8B260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6913C-5521-4D50-8A92-3904E75B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F108D-4531-4DAE-A909-A4C97CC4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4CAD5-24A1-407C-BEB8-A02EE63F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E5C8-7A11-4A77-959E-9CB0EC9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29BB-3B6D-4D9E-8364-07BF7E8D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4A12-A707-419C-85CE-37B170C5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9DBA7-FBEA-4A3E-ADEC-6315218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BAA-BCB2-4DAF-907C-DA3FEC5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07CC-E9AE-4847-BCBF-DD736BB9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C5B0E-E91E-4F61-AD89-9991B74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8621-E5B4-4096-98AD-9491911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DCC21-2C80-432F-ACC2-FE287791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0934-220D-4F4F-AE85-469C703B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A61C5-58E9-4D61-B6D1-4711CF47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7E76E-DF67-45A1-9D5E-3B928014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EAE34-D464-4605-974F-5EF1E8B5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DF8DA-7BB4-4A6B-A60A-B761438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3C707-18B0-4FF2-98B3-A01C8F61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662-C848-4F2C-97FA-DD0116871B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1FC-F9E6-48B5-9FC0-0DCD313FC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9C04-C94F-4A6F-B40A-3E051B6A9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B3A-34A2-4ADE-A47F-ECDC2ACF6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F164-BB28-40A8-9FE3-C15A13CFC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B35C-9399-479B-962B-713C44BE2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23A1-EF04-4E35-A0AA-2757ED5CD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A22B-F53B-4E4D-8075-4EF47E43F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8F6B-EAEF-415F-8E39-F89CEFFEB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737D-B61A-44EF-B856-86887841F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629F-ADF7-4EE7-828A-E52C347A4C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51ED-4ACC-4D28-9309-49269EFD8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SA 5 MAP USER’S 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80520" y="2743200"/>
            <a:ext cx="84582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Century Gothic"/>
              </a:rPr>
              <a:t>Unlocking Reports </a:t>
            </a:r>
            <a:br>
              <a:rPr sz="3600"/>
            </a:br>
            <a:r>
              <a:rPr b="0" lang="en-US" sz="2800" spc="-1" strike="noStrike">
                <a:solidFill>
                  <a:srgbClr val="d16349"/>
                </a:solidFill>
                <a:latin typeface="Century Gothic"/>
              </a:rPr>
              <a:t>to</a:t>
            </a: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Reach Your Goals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NWEA (color) web.gif"/>
          <p:cNvPicPr/>
          <p:nvPr/>
        </p:nvPicPr>
        <p:blipFill>
          <a:blip r:embed="rId1"/>
          <a:stretch/>
        </p:blipFill>
        <p:spPr>
          <a:xfrm>
            <a:off x="3041640" y="395280"/>
            <a:ext cx="3086280" cy="16095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2711160" y="55627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Janet Whee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tner Relations Representat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e focus-target an area of ne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Documents and Settings\andrew.bean\Desktop\slides\ir-1.jpg"/>
          <p:cNvPicPr/>
          <p:nvPr/>
        </p:nvPicPr>
        <p:blipFill>
          <a:blip r:embed="rId1"/>
          <a:stretch/>
        </p:blipFill>
        <p:spPr>
          <a:xfrm>
            <a:off x="1235160" y="1636560"/>
            <a:ext cx="6653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171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78152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560" y="2285640"/>
            <a:ext cx="850428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et the needs of all stu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pitalize on the knowledge and experience of  your colleag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as a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6" descr="C:\Documents and Settings\janet.wheeler\Local Settings\Temporary Internet Files\Content.IE5\K7V2TS8C\MCj02304000000[1].wmf"/>
          <p:cNvPicPr/>
          <p:nvPr/>
        </p:nvPicPr>
        <p:blipFill>
          <a:blip r:embed="rId1"/>
          <a:stretch/>
        </p:blipFill>
        <p:spPr>
          <a:xfrm>
            <a:off x="3809880" y="3352680"/>
            <a:ext cx="1494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147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ly what you kn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87200" y="1614600"/>
            <a:ext cx="8763120" cy="493848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6"/>
          <p:cNvCxnSpPr/>
          <p:nvPr/>
        </p:nvCxnSpPr>
        <p:spPr>
          <a:xfrm>
            <a:off x="2590560" y="2849040"/>
            <a:ext cx="533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59" name="Straight Arrow Connector 7"/>
          <p:cNvCxnSpPr/>
          <p:nvPr/>
        </p:nvCxnSpPr>
        <p:spPr>
          <a:xfrm>
            <a:off x="2568600" y="310212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60" name="Straight Arrow Connector 8"/>
          <p:cNvCxnSpPr/>
          <p:nvPr/>
        </p:nvCxnSpPr>
        <p:spPr>
          <a:xfrm>
            <a:off x="2514600" y="411480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61" name="Oval 9"/>
          <p:cNvSpPr/>
          <p:nvPr/>
        </p:nvSpPr>
        <p:spPr>
          <a:xfrm>
            <a:off x="3276720" y="2209680"/>
            <a:ext cx="2590560" cy="5335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Study</a:t>
            </a:r>
            <a:r>
              <a:rPr b="0" lang="en-US" sz="3300" spc="-1" strike="noStrike">
                <a:solidFill>
                  <a:srgbClr val="88a1ad"/>
                </a:solidFill>
                <a:latin typeface="Georgia"/>
              </a:rPr>
              <a:t> – Assess Your Progr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560" y="1828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we have a shared vi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has using data provided opportunities for sharing with my colleagu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I see evidence of student growth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we created a cycle of continuous improvemen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Ac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-Begin somewhere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904760"/>
            <a:ext cx="850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the data to chang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focus (targeted areas of concer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strategies (flexible grouping, differentiated instruction, etc.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my colleagues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ccessful strateg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ources and materi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nning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sistence . . . not perf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"/>
          <p:cNvPicPr/>
          <p:nvPr/>
        </p:nvPicPr>
        <p:blipFill>
          <a:blip r:embed="rId1"/>
          <a:stretch/>
        </p:blipFill>
        <p:spPr>
          <a:xfrm>
            <a:off x="298440" y="1663560"/>
            <a:ext cx="85168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isdo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gin challenging your own assumption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Your assumptions are your windows on the world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rub them off every once in awhile, or the light won’t come i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an Ald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4" descr="image027.jpg"/>
          <p:cNvPicPr/>
          <p:nvPr/>
        </p:nvPicPr>
        <p:blipFill>
          <a:blip r:embed="rId1"/>
          <a:srcRect l="0" t="12000" r="13434" b="0"/>
          <a:stretch/>
        </p:blipFill>
        <p:spPr>
          <a:xfrm>
            <a:off x="3122640" y="1697040"/>
            <a:ext cx="2886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 forth . . . . . . have fun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Why buy expensive toys.wmv" descr=""/>
          <p:cNvPicPr/>
          <p:nvPr/>
        </p:nvPicPr>
        <p:blipFill>
          <a:blip r:embed="rId1"/>
          <a:stretch/>
        </p:blipFill>
        <p:spPr>
          <a:xfrm>
            <a:off x="2678040" y="22575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563400" y="5546880"/>
            <a:ext cx="807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all you do for kids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48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essment should make a dif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1" name="Flowchart: Extract 3"/>
          <p:cNvGrpSpPr/>
          <p:nvPr/>
        </p:nvGrpSpPr>
        <p:grpSpPr>
          <a:xfrm>
            <a:off x="2182680" y="1444680"/>
            <a:ext cx="4767480" cy="4809960"/>
            <a:chOff x="2182680" y="1444680"/>
            <a:chExt cx="4767480" cy="4809960"/>
          </a:xfrm>
        </p:grpSpPr>
        <p:pic>
          <p:nvPicPr>
            <p:cNvPr id="612" name="Flowchart: Extract 3" descr=""/>
            <p:cNvPicPr/>
            <p:nvPr/>
          </p:nvPicPr>
          <p:blipFill>
            <a:blip r:embed="rId1"/>
            <a:stretch/>
          </p:blipFill>
          <p:spPr>
            <a:xfrm>
              <a:off x="2182680" y="1444680"/>
              <a:ext cx="47674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452760" y="3848040"/>
              <a:ext cx="2225880" cy="22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4" name="TextBox 17"/>
          <p:cNvSpPr/>
          <p:nvPr/>
        </p:nvSpPr>
        <p:spPr>
          <a:xfrm>
            <a:off x="3968640" y="25304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tate Te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5411160" y="55054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W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2713320" y="53341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1" descr="C:\Documents and Settings\janet.wheeler\Local Settings\Temporary Internet Files\Content.IE5\DW0RP42Z\MPj04265620000[1].jpg"/>
          <p:cNvPicPr/>
          <p:nvPr/>
        </p:nvPicPr>
        <p:blipFill>
          <a:blip r:embed="rId2"/>
          <a:stretch/>
        </p:blipFill>
        <p:spPr>
          <a:xfrm>
            <a:off x="3730680" y="3352680"/>
            <a:ext cx="1676520" cy="1828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have MAP data . . . now wha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71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create a shared vis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99840"/>
            <a:ext cx="8504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ools for improving instruction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ying the found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ing your approa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a culture of continuous impr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Diagram 3" descr=""/>
          <p:cNvPicPr/>
          <p:nvPr/>
        </p:nvPicPr>
        <p:blipFill>
          <a:blip r:embed="rId1"/>
          <a:stretch/>
        </p:blipFill>
        <p:spPr>
          <a:xfrm>
            <a:off x="2610000" y="3419640"/>
            <a:ext cx="4028760" cy="319392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5"/>
          <p:cNvCxnSpPr/>
          <p:nvPr/>
        </p:nvCxnSpPr>
        <p:spPr>
          <a:xfrm flipH="1">
            <a:off x="4605120" y="4267080"/>
            <a:ext cx="2160" cy="152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4" name="Straight Arrow Connector 8"/>
          <p:cNvCxnSpPr/>
          <p:nvPr/>
        </p:nvCxnSpPr>
        <p:spPr>
          <a:xfrm>
            <a:off x="3885840" y="5017680"/>
            <a:ext cx="1524600" cy="2520"/>
          </a:xfrm>
          <a:prstGeom prst="straightConnector1">
            <a:avLst/>
          </a:prstGeom>
          <a:ln w="28440">
            <a:solidFill>
              <a:srgbClr val="ffe94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5" name="Curved Connector 11"/>
          <p:cNvCxnSpPr/>
          <p:nvPr/>
        </p:nvCxnSpPr>
        <p:spPr>
          <a:xfrm flipV="1">
            <a:off x="4648320" y="3885480"/>
            <a:ext cx="1296000" cy="7628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5946120" y="3708360"/>
            <a:ext cx="170172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Reflective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7" name="Curved Connector 15"/>
          <p:cNvCxnSpPr/>
          <p:nvPr/>
        </p:nvCxnSpPr>
        <p:spPr>
          <a:xfrm flipV="1" rot="10800000">
            <a:off x="3276000" y="510516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28440">
            <a:solidFill>
              <a:srgbClr val="ffe947"/>
            </a:solidFill>
            <a:miter/>
            <a:tailEnd len="med" type="arrow" w="med"/>
          </a:ln>
        </p:spPr>
      </p:cxnSp>
      <p:sp>
        <p:nvSpPr>
          <p:cNvPr id="628" name="TextBox 17"/>
          <p:cNvSpPr/>
          <p:nvPr/>
        </p:nvSpPr>
        <p:spPr>
          <a:xfrm>
            <a:off x="1798560" y="5791320"/>
            <a:ext cx="141804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ction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lk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t Starts With M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would you describe effective teach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your school or district have a shared understanding of what kind of teaching you need in your classroo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yes, write down the shared vi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t, should you?  When a school does not have a shared understanding of effective teaching, what is the consequence on student lear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o you want to b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560" y="2057040"/>
            <a:ext cx="850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Big Go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did you choose MAP?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do you hope to achie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maller Goals-Measures of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are you going to get the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ill it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will you know you are making progres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C:\Documents and Settings\janet.wheeler\Local Settings\Temporary Internet Files\Content.IE5\NQFIH4KI\MPj04286140000[1].jpg"/>
          <p:cNvPicPr/>
          <p:nvPr/>
        </p:nvPicPr>
        <p:blipFill>
          <a:blip r:embed="rId1"/>
          <a:stretch/>
        </p:blipFill>
        <p:spPr>
          <a:xfrm>
            <a:off x="5334120" y="1676520"/>
            <a:ext cx="31240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Pla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Begin with the end in mind . . 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Diagram 3" descr=""/>
          <p:cNvPicPr/>
          <p:nvPr/>
        </p:nvPicPr>
        <p:blipFill>
          <a:blip r:embed="rId1"/>
          <a:stretch/>
        </p:blipFill>
        <p:spPr>
          <a:xfrm>
            <a:off x="298440" y="1792440"/>
            <a:ext cx="85471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636" name="TextBox 4"/>
          <p:cNvGrpSpPr/>
          <p:nvPr/>
        </p:nvGrpSpPr>
        <p:grpSpPr>
          <a:xfrm>
            <a:off x="6428160" y="1779480"/>
            <a:ext cx="1826640" cy="609840"/>
            <a:chOff x="6428160" y="1779480"/>
            <a:chExt cx="1826640" cy="609840"/>
          </a:xfrm>
        </p:grpSpPr>
        <p:pic>
          <p:nvPicPr>
            <p:cNvPr id="637" name="TextBox 4" descr=""/>
            <p:cNvPicPr/>
            <p:nvPr/>
          </p:nvPicPr>
          <p:blipFill>
            <a:blip r:embed="rId2"/>
            <a:stretch/>
          </p:blipFill>
          <p:spPr>
            <a:xfrm>
              <a:off x="6450120" y="1779480"/>
              <a:ext cx="177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28160" y="1784520"/>
              <a:ext cx="1826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7b9899"/>
                  </a:solidFill>
                  <a:latin typeface="Georgia"/>
                </a:rPr>
                <a:t>The End</a:t>
              </a:r>
              <a:endParaRPr b="0" lang="en-US" sz="33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39" name="Straight Arrow Connector 6" descr=""/>
          <p:cNvPicPr/>
          <p:nvPr/>
        </p:nvPicPr>
        <p:blipFill>
          <a:blip r:embed="rId3"/>
          <a:stretch/>
        </p:blipFill>
        <p:spPr>
          <a:xfrm>
            <a:off x="1504800" y="1852560"/>
            <a:ext cx="4883400" cy="6415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3210480" y="16765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d7a"/>
                </a:solidFill>
                <a:latin typeface="Georgia"/>
              </a:rPr>
              <a:t>Plan backwar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e meaning of the d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052960"/>
          </a:xfrm>
          <a:prstGeom prst="rect">
            <a:avLst/>
          </a:prstGeom>
          <a:ln w="0">
            <a:noFill/>
          </a:ln>
        </p:spPr>
      </p:pic>
      <p:sp>
        <p:nvSpPr>
          <p:cNvPr id="643" name="Right Arrow 4"/>
          <p:cNvSpPr/>
          <p:nvPr/>
        </p:nvSpPr>
        <p:spPr>
          <a:xfrm>
            <a:off x="2286000" y="6324480"/>
            <a:ext cx="533520" cy="25560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5575320" y="6311880"/>
            <a:ext cx="533520" cy="22860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Straight Connector 7"/>
          <p:cNvSpPr/>
          <p:nvPr/>
        </p:nvSpPr>
        <p:spPr>
          <a:xfrm flipV="1">
            <a:off x="6477120" y="6248160"/>
            <a:ext cx="457200" cy="759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6466320" y="5967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Do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Design your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Picture 2" descr="C:\Documents and Settings\andrew.bean\Desktop\slides\ir-0.jpg"/>
          <p:cNvPicPr/>
          <p:nvPr/>
        </p:nvPicPr>
        <p:blipFill>
          <a:blip r:embed="rId1"/>
          <a:stretch/>
        </p:blipFill>
        <p:spPr>
          <a:xfrm>
            <a:off x="1203480" y="1652760"/>
            <a:ext cx="6737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28:19Z</dcterms:created>
  <dc:creator>janet.wheeler</dc:creator>
  <dc:description/>
  <dc:language>en-US</dc:language>
  <cp:lastModifiedBy>CESA5</cp:lastModifiedBy>
  <dcterms:modified xsi:type="dcterms:W3CDTF">2008-04-10T15:13:29Z</dcterms:modified>
  <cp:revision>103</cp:revision>
  <dc:subject/>
  <dc:title>Unlocking Reports</dc:title>
</cp:coreProperties>
</file>