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1.jpeg" ContentType="image/jpeg"/>
  <Override PartName="/ppt/media/image18.png" ContentType="image/png"/>
  <Override PartName="/ppt/media/image17.jpeg" ContentType="image/jpeg"/>
  <Override PartName="/ppt/media/image16.png" ContentType="image/png"/>
  <Override PartName="/ppt/media/image14.wmf" ContentType="image/x-wmf"/>
  <Override PartName="/ppt/media/image1.png" ContentType="image/png"/>
  <Override PartName="/ppt/media/image15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5C62-8B1B-425F-957B-0F8D33B55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90B5-9C7E-4C1E-BA8A-27C6B23B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9CBD46-B967-4911-8693-06D44809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D0062C-22F4-4F7E-A823-9DED1D25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D8B1FB-7358-4B6C-8159-3B444420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E5ABC9-DC4F-4C56-9B16-4B29152A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3E0262-2CA7-4FA6-8FEE-BF3D51EC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55D71E-06F2-4A28-BD8C-CDCDDC7F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7E016E-7B17-4E00-897B-035AE711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9CB232-3AA6-4906-B3B5-1EC4E95DD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ECD953-29EC-47CE-B79C-01F7516DF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A303C7-9A24-4BE3-81B9-385873779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F62F-44BD-4D78-A494-2B68DCDF1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12B8F0-D5AD-423E-9710-9401C11F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24AB5D-A55A-4F03-8DE6-29D16677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30DE74-C3AF-4402-B5A5-6ED4BDC0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A108D8-FF30-4A80-8D3C-C406A838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B0E4BE-E9F7-4D2F-B545-C7FB56D5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7C23E1-34FB-475C-93AE-D957F3A9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AD1000-268E-4467-AE5B-203927A9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C8AE63-905A-491F-BAF0-672A5561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8D4839-0F0F-4F69-8D25-23C76C3E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800DE2-3C5E-4507-B734-73ABCBCCD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3574-9257-452B-9849-D7E26B127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1DF527-B1AE-44C0-B58B-A9160D92F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95E0F-CA47-46A5-8FF6-310A23477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6DB54-EF88-47B3-AD4F-E8DFD084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FBA9B-A8AB-4B2C-B11C-C9B1AF61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18859-046F-4CB3-8AB8-8845397E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4C437-9347-416D-8B78-82D196DF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D12DD5-DDE9-4A74-804C-86006C01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998C3-6B8C-4350-B813-461B1E0C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36F27-FCE5-4C2E-BAB8-BCCF7295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32F3C-1A4F-4BFA-836A-AE861029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3AFE-52E6-47D5-B202-1844F478F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9C610-2640-47DE-86E1-F5CA2907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471E6-5A16-4EC4-B68D-81207C0B0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48A29-6779-4B0C-B7CE-4D41EB362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138DED-3961-41F8-943B-9B15628CD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D1F3E6-C115-4558-9FBA-3E2984DA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DE96B5-F032-41E1-A22B-1B93353B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6CEF34-E989-4548-BDF0-788E5293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6E917A-F713-4E64-B624-D8F7272E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3EE0E8-F2B2-4C44-AB0B-7F96D92C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39EED0-B728-4682-BC17-33CFBA23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E7C9-0769-449A-99A6-CD9240C8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B556A5-9093-4282-A83B-7FEE9A43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4EF58F-E4EC-4BD2-832A-DB16A1BD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1CEFFD-7EE2-40DE-AB3F-5EDA4AE2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DA11ED-8215-4B26-96EC-EF10593A0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906CB9-6B2E-4518-858B-9A2A20526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084FF-95CD-465E-BA80-79197F6D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CD6D-6783-4959-B4CF-391C09FA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DBDD-A240-4386-B33D-65E0C91D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D0F5-A470-42A4-9DD1-C4F661B4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4811-0C23-4E9B-9B62-4A5BC04A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F30A-E55C-4B6C-892B-1063E287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E41D-6656-457C-B0BB-9D220EB8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1F035-89CC-47B5-8394-AE68C5E2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636A-79DC-4294-8F50-2A728AD5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925D-7E60-4A67-8680-00DA3E775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7F4E-6CC1-4D3D-8C59-59E8CC9FE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B83BC-2BF9-4AED-A1ED-496620B57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B8298-D0D8-4010-86FC-487FC494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859D5-03EC-4BCC-BE93-BCB0C410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D2FF0-5EE9-4F24-87AE-079C798E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427DB-A72B-45F7-A09B-B0A36EB2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7AF6-9E7B-4CF3-BA0F-84CCA07E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46D15-CD34-48CA-964A-F131A535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4535F-501F-4667-A5CD-66803410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DAA21-29F3-41BC-8584-F8836747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C72A9-AE7F-400E-A01D-805C206F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CC17A-A0BC-47C8-AC02-A6CA8D3D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9A5DE-751C-4FD2-9D79-1F5768429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0F13F-1092-4FDF-B116-2C834D902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3D6AE-F601-4148-8F91-751D90D7F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BD1C5-7A9B-48C1-9DC7-753C9453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19DF0-6E09-4BEF-8EE2-50B7D567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9EF3-A476-4916-BFFA-D1D4F751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F02F0-F4CE-4FDB-8307-765C43DA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E03A3-CEA8-4108-AF64-B53B0560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70010-EE34-49A5-9E6B-592134D1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C2A4E-2855-42A7-9D22-E46C180C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CD0DA-8AC3-40FE-A664-5165C84C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AD9DB-917E-43CE-A3B1-2A2E6DB4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E4FA6-286F-429E-B132-B379B84B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15EEA-743C-4D5F-8DD7-454413349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20656-B637-4A8E-8663-BEFBBE305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83211-6E99-4888-90B1-314ADAB37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D04A-00F0-4B1C-AB78-3B6F40C8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0D6C2-B839-47C3-80F2-12EEDC88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D2FC2-B48D-4DBD-BBB4-0F42F9B1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7F11E-4FDD-4B5C-BF14-6B7713F8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723E1-7E03-4235-9001-D5F40A5F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A46CC-2191-45F7-B097-06C349F0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5FC1C-AE9D-46EA-8F9E-777B243A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9950A-FF77-41C9-B390-88E03CD9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43047-AC45-4BAA-A76C-EF35333D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DCAF3-203B-4689-AE22-382AEBDC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40947-5007-4747-9842-1936A9C09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AC2F-26C5-42D0-8BCE-97412E88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4C69B-03B6-4553-960E-252C95778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7A3A7-014F-4B70-A1BB-195B2A0A6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FBBD2-1B07-4349-874A-6BD24D99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B55E5-73DA-450F-AA73-A4FF8035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15EC2-AF33-4CB4-81CE-1AA2D0C5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37C69-D0FA-44AD-9C2E-6E2381EE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8E43C-8C22-40FC-9214-B49F852A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86EA4-7DC6-4796-A95A-C5F412E3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5812A-A36D-4659-9A02-3D49B52E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83826-2226-4FBD-95F2-4B09D803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9A20-4947-4AA3-9D1B-3F27105C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D6AB9-2B5E-440C-A5CB-71D7A462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496C0-71AF-47F2-903F-4244DF5F0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64045-B45A-4943-A961-C43123917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27306-63D1-4023-9214-79C71F4DA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0A648-2D9D-4CBA-B39D-EE11BAAE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CC0EA-5457-484A-A4E6-D4D75981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9383B-9396-4727-B54D-C6AC0854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21FDB-E223-45FB-9687-FBBAAF47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C08C4-1BE2-4088-A2B7-BA7A7039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7ADE3-6F7C-4327-A523-2B3ECD68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7888-C0F2-4FBD-A7A1-D78D8FA8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B2F18-688C-45C3-9BB1-0B3ECF2F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4A897-67F4-4FEC-8CC4-AF491FBF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C00F8-5F54-4FF4-9315-2A1270B3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0969D-9819-4605-9BEE-29CD7D605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9042E-4C35-439D-A74E-A3196B0FE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22016-F785-4536-92B2-60BA8FA14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79FFC-F2A3-476A-A328-EE26172A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82826-DA85-46BD-A7C3-B4260FFE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1F991-9078-4FBD-9FBB-E83A657C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6178C-39AC-44E7-B585-9C3780B1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EBED-403F-4C01-B744-6E704FAF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DC25B-7272-45A9-B4E1-FE6F51E5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BFDDF-CDDE-47C5-A26C-16F6FECD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64D64-5CF8-4BB7-8020-90B0B329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2816C-65B8-4B18-AED7-18F0DBDA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BEC7C-365E-4316-B78D-87879995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DD2D6-5310-4A80-9F39-5FB0306F4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B6A14-9DD2-4504-A7CB-58AC6AD19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344B0A-AB23-43BF-B7FB-1539A51F4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5D916A-0062-4000-9BAE-C7AD4B37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31EFC5-D5DD-49A9-8F16-55D3CD21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7B34-459B-47D8-9635-C50C1AABF4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E082-03A9-4826-A8F6-C30A9C07F8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4BC8-4595-4E37-91BC-9D23B45086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C7FE-DC6E-4CCC-A550-2AFE93B280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7023-16D3-443D-A173-A847D00808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F944-3E8F-4F1E-A927-A6C2D14098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AA32-A5D3-40BE-8D14-BEB071309C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26CA-AB2E-4590-BB6C-C046969E83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3404-9129-4860-BA79-55D2232EF3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EA25-5484-4C4E-9491-67145284CA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0EA7-FF60-472A-8ED3-2CADA65E8B9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05E9-6616-46A7-B76C-D94D2E8747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143000" y="4571640"/>
            <a:ext cx="685800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ESA 5 MAP USER’S GROUP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PRING 2008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380520" y="2743200"/>
            <a:ext cx="8458200" cy="18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6349"/>
                </a:solidFill>
                <a:latin typeface="Century Gothic"/>
              </a:rPr>
              <a:t>Unlocking Reports </a:t>
            </a:r>
            <a:br>
              <a:rPr sz="3600"/>
            </a:br>
            <a:r>
              <a:rPr b="0" lang="en-US" sz="2800" spc="-1" strike="noStrike">
                <a:solidFill>
                  <a:srgbClr val="d16349"/>
                </a:solidFill>
                <a:latin typeface="Century Gothic"/>
              </a:rPr>
              <a:t>to</a:t>
            </a:r>
            <a:r>
              <a:rPr b="0" lang="en-US" sz="3600" spc="-1" strike="noStrike">
                <a:solidFill>
                  <a:srgbClr val="d16349"/>
                </a:solidFill>
                <a:latin typeface="Century Gothic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d16349"/>
                </a:solidFill>
                <a:latin typeface="Century Gothic"/>
              </a:rPr>
              <a:t>Reach Your Goals</a:t>
            </a:r>
            <a:br>
              <a:rPr sz="3600"/>
            </a:b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Picture 3" descr="NWEA (color) web.gif"/>
          <p:cNvPicPr/>
          <p:nvPr/>
        </p:nvPicPr>
        <p:blipFill>
          <a:blip r:embed="rId1"/>
          <a:stretch/>
        </p:blipFill>
        <p:spPr>
          <a:xfrm>
            <a:off x="3041640" y="395280"/>
            <a:ext cx="3086280" cy="1609560"/>
          </a:xfrm>
          <a:prstGeom prst="rect">
            <a:avLst/>
          </a:prstGeom>
          <a:ln w="0">
            <a:noFill/>
          </a:ln>
        </p:spPr>
      </p:pic>
      <p:sp>
        <p:nvSpPr>
          <p:cNvPr id="609" name="TextBox 4"/>
          <p:cNvSpPr/>
          <p:nvPr/>
        </p:nvSpPr>
        <p:spPr>
          <a:xfrm>
            <a:off x="2711160" y="5562720"/>
            <a:ext cx="371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Janet Wheel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Partner Relations Representativ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151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reate focus-target an area of nee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0" name="Picture 2" descr="C:\Documents and Settings\andrew.bean\Desktop\slides\ir-1.jpg"/>
          <p:cNvPicPr/>
          <p:nvPr/>
        </p:nvPicPr>
        <p:blipFill>
          <a:blip r:embed="rId1"/>
          <a:stretch/>
        </p:blipFill>
        <p:spPr>
          <a:xfrm>
            <a:off x="1235160" y="1636560"/>
            <a:ext cx="665316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1320" y="17136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ncorporate Strategi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2" name="Picture 4" descr=""/>
          <p:cNvPicPr/>
          <p:nvPr/>
        </p:nvPicPr>
        <p:blipFill>
          <a:blip r:embed="rId1"/>
          <a:stretch/>
        </p:blipFill>
        <p:spPr>
          <a:xfrm>
            <a:off x="650880" y="1628640"/>
            <a:ext cx="7815240" cy="50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ncorporate Strategi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04560" y="2285640"/>
            <a:ext cx="8504280" cy="24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eet the needs of all studen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apitalize on the knowledge and experience of  your colleagu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ork as a tea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5" name="Picture 6" descr="C:\Documents and Settings\janet.wheeler\Local Settings\Temporary Internet Files\Content.IE5\K7V2TS8C\MCj02304000000[1].wmf"/>
          <p:cNvPicPr/>
          <p:nvPr/>
        </p:nvPicPr>
        <p:blipFill>
          <a:blip r:embed="rId1"/>
          <a:stretch/>
        </p:blipFill>
        <p:spPr>
          <a:xfrm>
            <a:off x="3809880" y="3352680"/>
            <a:ext cx="149400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320" y="147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pply what you know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7" name="Picture 2" descr=""/>
          <p:cNvPicPr/>
          <p:nvPr/>
        </p:nvPicPr>
        <p:blipFill>
          <a:blip r:embed="rId1"/>
          <a:stretch/>
        </p:blipFill>
        <p:spPr>
          <a:xfrm>
            <a:off x="187200" y="1614600"/>
            <a:ext cx="8763120" cy="4938480"/>
          </a:xfrm>
          <a:prstGeom prst="rect">
            <a:avLst/>
          </a:prstGeom>
          <a:ln w="0">
            <a:noFill/>
          </a:ln>
        </p:spPr>
      </p:pic>
      <p:cxnSp>
        <p:nvCxnSpPr>
          <p:cNvPr id="658" name="Straight Arrow Connector 6"/>
          <p:cNvCxnSpPr/>
          <p:nvPr/>
        </p:nvCxnSpPr>
        <p:spPr>
          <a:xfrm>
            <a:off x="2590560" y="2849040"/>
            <a:ext cx="533880" cy="2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659" name="Straight Arrow Connector 7"/>
          <p:cNvCxnSpPr/>
          <p:nvPr/>
        </p:nvCxnSpPr>
        <p:spPr>
          <a:xfrm>
            <a:off x="2568600" y="3102120"/>
            <a:ext cx="534240" cy="216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660" name="Straight Arrow Connector 8"/>
          <p:cNvCxnSpPr/>
          <p:nvPr/>
        </p:nvCxnSpPr>
        <p:spPr>
          <a:xfrm>
            <a:off x="2514600" y="4114800"/>
            <a:ext cx="534240" cy="216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661" name="Oval 9"/>
          <p:cNvSpPr/>
          <p:nvPr/>
        </p:nvSpPr>
        <p:spPr>
          <a:xfrm>
            <a:off x="3276720" y="2209680"/>
            <a:ext cx="2590560" cy="533520"/>
          </a:xfrm>
          <a:prstGeom prst="ellipse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16349"/>
                </a:solidFill>
                <a:latin typeface="Georgia"/>
              </a:rPr>
              <a:t>Study</a:t>
            </a:r>
            <a:r>
              <a:rPr b="0" lang="en-US" sz="3300" spc="-1" strike="noStrike">
                <a:solidFill>
                  <a:srgbClr val="88a1ad"/>
                </a:solidFill>
                <a:latin typeface="Georgia"/>
              </a:rPr>
              <a:t> – Assess Your Progres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04560" y="1828800"/>
            <a:ext cx="8504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 we have a shared vision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ow has using data provided opportunities for sharing with my colleagues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 I see evidence of student growth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ave we created a cycle of continuous improvement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16349"/>
                </a:solidFill>
                <a:latin typeface="Georgia"/>
              </a:rPr>
              <a:t>Act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-Begin somewhere!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304560" y="1904760"/>
            <a:ext cx="850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 the data to chang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nstructional focus (targeted areas of concern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urriculum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nstructional strategies (flexible grouping, differentiated instruction, etc.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are with my colleagues-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uccessful strategi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esources and material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lanning Tim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ersistence . . . not perfec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7" name="Content Placeholder 3" descr=""/>
          <p:cNvPicPr/>
          <p:nvPr/>
        </p:nvPicPr>
        <p:blipFill>
          <a:blip r:embed="rId1"/>
          <a:stretch/>
        </p:blipFill>
        <p:spPr>
          <a:xfrm>
            <a:off x="298440" y="1663560"/>
            <a:ext cx="851688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isdom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01320" y="1526760"/>
            <a:ext cx="850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Begin challenging your own assumptions. 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Your assumptions are your windows on the world. 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crub them off every once in awhile, or the light won’t come in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lan Alda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0" name="Picture 4" descr="image027.jpg"/>
          <p:cNvPicPr/>
          <p:nvPr/>
        </p:nvPicPr>
        <p:blipFill>
          <a:blip r:embed="rId1"/>
          <a:srcRect l="0" t="12000" r="13434" b="0"/>
          <a:stretch/>
        </p:blipFill>
        <p:spPr>
          <a:xfrm>
            <a:off x="3122640" y="1697040"/>
            <a:ext cx="2886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Go forth . . . . . . have fun!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2" name="Why buy expensive toys.wmv" descr=""/>
          <p:cNvPicPr/>
          <p:nvPr/>
        </p:nvPicPr>
        <p:blipFill>
          <a:blip r:embed="rId1"/>
          <a:stretch/>
        </p:blipFill>
        <p:spPr>
          <a:xfrm>
            <a:off x="2678040" y="225756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673" name="TextBox 3"/>
          <p:cNvSpPr/>
          <p:nvPr/>
        </p:nvSpPr>
        <p:spPr>
          <a:xfrm>
            <a:off x="563400" y="5546880"/>
            <a:ext cx="8077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ANK YOU for all you do for kids!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80480" fill="hold"/>
                                        <p:tgtEl>
                                          <p:spTgt spid="6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672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672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7" dur="1" fill="hold"/>
                                        <p:tgtEl>
                                          <p:spTgt spid="6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ssessment should make a differenc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grpSp>
        <p:nvGrpSpPr>
          <p:cNvPr id="611" name="Flowchart: Extract 3"/>
          <p:cNvGrpSpPr/>
          <p:nvPr/>
        </p:nvGrpSpPr>
        <p:grpSpPr>
          <a:xfrm>
            <a:off x="2182680" y="1444680"/>
            <a:ext cx="4767480" cy="4809960"/>
            <a:chOff x="2182680" y="1444680"/>
            <a:chExt cx="4767480" cy="4809960"/>
          </a:xfrm>
        </p:grpSpPr>
        <p:pic>
          <p:nvPicPr>
            <p:cNvPr id="612" name="Flowchart: Extract 3" descr=""/>
            <p:cNvPicPr/>
            <p:nvPr/>
          </p:nvPicPr>
          <p:blipFill>
            <a:blip r:embed="rId1"/>
            <a:stretch/>
          </p:blipFill>
          <p:spPr>
            <a:xfrm>
              <a:off x="2182680" y="1444680"/>
              <a:ext cx="4767480" cy="48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3452760" y="3848040"/>
              <a:ext cx="2225880" cy="22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614" name="TextBox 17"/>
          <p:cNvSpPr/>
          <p:nvPr/>
        </p:nvSpPr>
        <p:spPr>
          <a:xfrm>
            <a:off x="3968640" y="2530440"/>
            <a:ext cx="11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State Test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TextBox 18"/>
          <p:cNvSpPr/>
          <p:nvPr/>
        </p:nvSpPr>
        <p:spPr>
          <a:xfrm>
            <a:off x="5411160" y="5505480"/>
            <a:ext cx="79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NWEA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TextBox 19"/>
          <p:cNvSpPr/>
          <p:nvPr/>
        </p:nvSpPr>
        <p:spPr>
          <a:xfrm>
            <a:off x="2713320" y="5334120"/>
            <a:ext cx="148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lassroom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Assessment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Picture 11" descr="C:\Documents and Settings\janet.wheeler\Local Settings\Temporary Internet Files\Content.IE5\DW0RP42Z\MPj04265620000[1].jpg"/>
          <p:cNvPicPr/>
          <p:nvPr/>
        </p:nvPicPr>
        <p:blipFill>
          <a:blip r:embed="rId2"/>
          <a:stretch/>
        </p:blipFill>
        <p:spPr>
          <a:xfrm>
            <a:off x="3730680" y="3352680"/>
            <a:ext cx="1676520" cy="182880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 have MAP data . . . now what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9" name="Picture 2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527184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ow do you create a shared visio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4560" y="1599840"/>
            <a:ext cx="8504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tools for improving instruction include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aying the found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esigning your approach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reating a culture of continuous improveme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2" name="Diagram 3" descr=""/>
          <p:cNvPicPr/>
          <p:nvPr/>
        </p:nvPicPr>
        <p:blipFill>
          <a:blip r:embed="rId1"/>
          <a:stretch/>
        </p:blipFill>
        <p:spPr>
          <a:xfrm>
            <a:off x="2610000" y="3419640"/>
            <a:ext cx="4028760" cy="3193920"/>
          </a:xfrm>
          <a:prstGeom prst="rect">
            <a:avLst/>
          </a:prstGeom>
          <a:ln w="0">
            <a:noFill/>
          </a:ln>
        </p:spPr>
      </p:pic>
      <p:cxnSp>
        <p:nvCxnSpPr>
          <p:cNvPr id="623" name="Straight Arrow Connector 5"/>
          <p:cNvCxnSpPr/>
          <p:nvPr/>
        </p:nvCxnSpPr>
        <p:spPr>
          <a:xfrm flipH="1">
            <a:off x="4605120" y="4267080"/>
            <a:ext cx="2160" cy="1526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4" name="Straight Arrow Connector 8"/>
          <p:cNvCxnSpPr/>
          <p:nvPr/>
        </p:nvCxnSpPr>
        <p:spPr>
          <a:xfrm>
            <a:off x="3885840" y="5017680"/>
            <a:ext cx="1524600" cy="2520"/>
          </a:xfrm>
          <a:prstGeom prst="straightConnector1">
            <a:avLst/>
          </a:prstGeom>
          <a:ln w="28440">
            <a:solidFill>
              <a:srgbClr val="ffe947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5" name="Curved Connector 11"/>
          <p:cNvCxnSpPr/>
          <p:nvPr/>
        </p:nvCxnSpPr>
        <p:spPr>
          <a:xfrm flipV="1">
            <a:off x="4648320" y="3885480"/>
            <a:ext cx="1296000" cy="762840"/>
          </a:xfrm>
          <a:prstGeom prst="curvedConnector5">
            <a:avLst>
              <a:gd name="adj1" fmla="val 49986"/>
              <a:gd name="adj2" fmla="val 50000"/>
              <a:gd name="adj3" fmla="val 49986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6" name="TextBox 12"/>
          <p:cNvSpPr/>
          <p:nvPr/>
        </p:nvSpPr>
        <p:spPr>
          <a:xfrm>
            <a:off x="5946120" y="3708360"/>
            <a:ext cx="1701720" cy="3070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Reflective Process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627" name="Curved Connector 15"/>
          <p:cNvCxnSpPr/>
          <p:nvPr/>
        </p:nvCxnSpPr>
        <p:spPr>
          <a:xfrm flipV="1" rot="10800000">
            <a:off x="3276000" y="5105160"/>
            <a:ext cx="91512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28440">
            <a:solidFill>
              <a:srgbClr val="ffe947"/>
            </a:solidFill>
            <a:miter/>
            <a:tailEnd len="med" type="arrow" w="med"/>
          </a:ln>
        </p:spPr>
      </p:cxnSp>
      <p:sp>
        <p:nvSpPr>
          <p:cNvPr id="628" name="TextBox 17"/>
          <p:cNvSpPr/>
          <p:nvPr/>
        </p:nvSpPr>
        <p:spPr>
          <a:xfrm>
            <a:off x="1798560" y="5791320"/>
            <a:ext cx="1418040" cy="3070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Action Process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alk!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6349"/>
                </a:solidFill>
                <a:latin typeface="Georgia"/>
              </a:rPr>
              <a:t>It Starts With Me!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ow would you describe effective teaching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es your school or district have a shared understanding of what kind of teaching you need in your classrooms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f yes, write down the shared visi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f not, should you?  When a school does not have a shared understanding of effective teaching, what is the consequence on student learning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ere do you want to be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4560" y="2057040"/>
            <a:ext cx="8504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d16349"/>
                </a:solidFill>
                <a:latin typeface="Georgia"/>
              </a:rPr>
              <a:t>Big Goal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hy did you choose MAP?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hat do you hope to achieve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d16349"/>
                </a:solidFill>
                <a:latin typeface="Georgia"/>
              </a:rPr>
              <a:t>Smaller Goals-Measures of Succes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ow are you going to get there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hat will it look like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ow will you know you are making progress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3" name="Picture 2" descr="C:\Documents and Settings\janet.wheeler\Local Settings\Temporary Internet Files\Content.IE5\NQFIH4KI\MPj04286140000[1].jpg"/>
          <p:cNvPicPr/>
          <p:nvPr/>
        </p:nvPicPr>
        <p:blipFill>
          <a:blip r:embed="rId1"/>
          <a:stretch/>
        </p:blipFill>
        <p:spPr>
          <a:xfrm>
            <a:off x="5334120" y="1676520"/>
            <a:ext cx="312408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16349"/>
                </a:solidFill>
                <a:latin typeface="Georgia"/>
              </a:rPr>
              <a:t>Plan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 - Begin with the end in mind . . 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5" name="Diagram 3" descr=""/>
          <p:cNvPicPr/>
          <p:nvPr/>
        </p:nvPicPr>
        <p:blipFill>
          <a:blip r:embed="rId1"/>
          <a:stretch/>
        </p:blipFill>
        <p:spPr>
          <a:xfrm>
            <a:off x="298440" y="1792440"/>
            <a:ext cx="8547120" cy="4657680"/>
          </a:xfrm>
          <a:prstGeom prst="rect">
            <a:avLst/>
          </a:prstGeom>
          <a:ln w="0">
            <a:noFill/>
          </a:ln>
        </p:spPr>
      </p:pic>
      <p:grpSp>
        <p:nvGrpSpPr>
          <p:cNvPr id="636" name="TextBox 4"/>
          <p:cNvGrpSpPr/>
          <p:nvPr/>
        </p:nvGrpSpPr>
        <p:grpSpPr>
          <a:xfrm>
            <a:off x="6428160" y="1779480"/>
            <a:ext cx="1826640" cy="609840"/>
            <a:chOff x="6428160" y="1779480"/>
            <a:chExt cx="1826640" cy="609840"/>
          </a:xfrm>
        </p:grpSpPr>
        <p:pic>
          <p:nvPicPr>
            <p:cNvPr id="637" name="TextBox 4" descr=""/>
            <p:cNvPicPr/>
            <p:nvPr/>
          </p:nvPicPr>
          <p:blipFill>
            <a:blip r:embed="rId2"/>
            <a:stretch/>
          </p:blipFill>
          <p:spPr>
            <a:xfrm>
              <a:off x="6450120" y="1779480"/>
              <a:ext cx="177948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6428160" y="1784520"/>
              <a:ext cx="182664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7b9899"/>
                  </a:solidFill>
                  <a:latin typeface="Georgia"/>
                </a:rPr>
                <a:t>The End</a:t>
              </a:r>
              <a:endParaRPr b="0" lang="en-US" sz="33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pic>
        <p:nvPicPr>
          <p:cNvPr id="639" name="Straight Arrow Connector 6" descr=""/>
          <p:cNvPicPr/>
          <p:nvPr/>
        </p:nvPicPr>
        <p:blipFill>
          <a:blip r:embed="rId3"/>
          <a:stretch/>
        </p:blipFill>
        <p:spPr>
          <a:xfrm>
            <a:off x="1504800" y="1852560"/>
            <a:ext cx="4883400" cy="641520"/>
          </a:xfrm>
          <a:prstGeom prst="rect">
            <a:avLst/>
          </a:prstGeom>
          <a:ln w="0">
            <a:noFill/>
          </a:ln>
        </p:spPr>
      </p:pic>
      <p:sp>
        <p:nvSpPr>
          <p:cNvPr id="640" name="TextBox 12"/>
          <p:cNvSpPr/>
          <p:nvPr/>
        </p:nvSpPr>
        <p:spPr>
          <a:xfrm>
            <a:off x="3210480" y="16765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6d7a"/>
                </a:solidFill>
                <a:latin typeface="Georgia"/>
              </a:rPr>
              <a:t>Plan backward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ake meaning of the dat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2" name="Picture 2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696080" cy="5052960"/>
          </a:xfrm>
          <a:prstGeom prst="rect">
            <a:avLst/>
          </a:prstGeom>
          <a:ln w="0">
            <a:noFill/>
          </a:ln>
        </p:spPr>
      </p:pic>
      <p:sp>
        <p:nvSpPr>
          <p:cNvPr id="643" name="Right Arrow 4"/>
          <p:cNvSpPr/>
          <p:nvPr/>
        </p:nvSpPr>
        <p:spPr>
          <a:xfrm>
            <a:off x="2286000" y="6324480"/>
            <a:ext cx="533520" cy="255600"/>
          </a:xfrm>
          <a:prstGeom prst="rightArrow">
            <a:avLst>
              <a:gd name="adj1" fmla="val 50000"/>
              <a:gd name="adj2" fmla="val 50096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Oval 5"/>
          <p:cNvSpPr/>
          <p:nvPr/>
        </p:nvSpPr>
        <p:spPr>
          <a:xfrm>
            <a:off x="5575320" y="6311880"/>
            <a:ext cx="533520" cy="228600"/>
          </a:xfrm>
          <a:prstGeom prst="ellipse">
            <a:avLst/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Straight Connector 7"/>
          <p:cNvSpPr/>
          <p:nvPr/>
        </p:nvSpPr>
        <p:spPr>
          <a:xfrm flipV="1">
            <a:off x="6477120" y="6248160"/>
            <a:ext cx="457200" cy="75960"/>
          </a:xfrm>
          <a:prstGeom prst="line">
            <a:avLst/>
          </a:prstGeom>
          <a:ln w="2844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TextBox 8"/>
          <p:cNvSpPr/>
          <p:nvPr/>
        </p:nvSpPr>
        <p:spPr>
          <a:xfrm>
            <a:off x="6466320" y="596736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95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10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10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0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16349"/>
                </a:solidFill>
                <a:latin typeface="Georgia"/>
              </a:rPr>
              <a:t>Do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 - Design your approach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8" name="Picture 2" descr="C:\Documents and Settings\andrew.bean\Desktop\slides\ir-0.jpg"/>
          <p:cNvPicPr/>
          <p:nvPr/>
        </p:nvPicPr>
        <p:blipFill>
          <a:blip r:embed="rId1"/>
          <a:stretch/>
        </p:blipFill>
        <p:spPr>
          <a:xfrm>
            <a:off x="1203480" y="1652760"/>
            <a:ext cx="673704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17:28:19Z</dcterms:created>
  <dc:creator>janet.wheeler</dc:creator>
  <dc:description/>
  <dc:language>en-US</dc:language>
  <cp:lastModifiedBy>CESA5</cp:lastModifiedBy>
  <dcterms:modified xsi:type="dcterms:W3CDTF">2008-04-10T15:13:29Z</dcterms:modified>
  <cp:revision>103</cp:revision>
  <dc:subject/>
  <dc:title>Unlocking Reports</dc:title>
</cp:coreProperties>
</file>